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3863-8450-48C5-B940-53032D9D0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C032-151D-44F7-A650-5C127890D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2DA2-98A3-41C3-B29D-3C5191578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9BDD-1195-42B7-B3BF-511CF76FB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0FD7-95A4-4031-88B4-FE5924915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A9163-9DEF-489C-A685-9108A5A69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8418-5853-44FD-8E2D-93C10DE6EB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F105A-533E-4399-8A65-6817DE387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23C90-54E7-411F-8151-00E5BEFBE4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76E77-F2B6-487D-971B-226FD3677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B61A2-AF3C-4219-91C5-627176463E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0A2A-C197-4AB3-8F36-8C88ACDBB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F41A7-C0F4-4912-9279-47B1E2A4D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CA9C3-AC45-4F13-BF89-5201D83AD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51ACE-D8E4-4169-BACB-13BBAC83E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623C1-04EF-4C95-9F60-52C1EA55AC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BC0F0-414D-4E29-9C6D-5F773A2DA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F5C1-2061-4B0F-A4ED-557CA39C6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Jack Donovan</cp:lastModifiedBy>
  <dcterms:modified xsi:type="dcterms:W3CDTF">2009-06-25T22:11:39Z</dcterms:modified>
  <cp:revision>84</cp:revision>
  <dc:subject/>
  <dc:title>AT Basic System Example</dc:title>
</cp:coreProperties>
</file>