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60040" y="744480"/>
            <a:ext cx="4915080" cy="36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244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778200" y="9429480"/>
            <a:ext cx="2857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AA1C7-97B2-4832-B842-7B0856514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2823B-B9E1-4A98-842C-7A8250FCCE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0753E-E9A1-4999-BE8F-3624B7D024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462B6-FB76-4C62-BD1D-82FFBD34CC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1A559-088D-4C74-942E-239850ACD7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00818-C02A-45D8-B6B2-9BB8EE520C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32702-909E-4607-AE6B-B74441CF96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585E2-940D-4A74-8BE5-CA6D8F9009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47096-D1B4-415A-B35F-636C947FB9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1B6EF-56DF-470C-9EBA-D8938DEC83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8C01C-2929-4211-8BA3-AFC33B8ECF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CDB0A-AF22-45A0-9F54-3CD9767D6C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F7B2C-B66C-458B-9687-B24FAFBF77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5A79E-68F1-4266-8C9D-073F42F6A5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3339D-8BB8-4607-A56C-B4FA189FC4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AA99F-8F37-4C11-9008-90D3674195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F101C-EE8F-446A-ACFD-D99EB56E36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5E264-2AFF-412A-94C6-75C2A49FA4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87E1B-BB63-47C6-8D44-22FB533806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0E85E-4FEB-41F4-A648-CE597B1E2A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5960C-C754-4315-8530-9E7074CF49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ECAB5-D3F6-450A-8F87-03208244A5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9ED5D-4D35-4EED-AB20-ED3D300408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8E27F-F2C8-419E-8F8A-83D89A264F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FBA08-3601-488B-A495-70393AA2A6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2D481-23F5-4CDC-9CC2-83ABFBE65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F0D31-4BA9-4A16-8C1D-C0E3228AB7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28A9F-9515-4708-8212-3000617DF7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4ED41-5FB5-48D4-9F48-51D4D064E4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99020-27FB-4890-84F6-5A50951B72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B32BA-5B88-452A-8C16-84216BB0A1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4D0F0-E96A-45C0-9F71-3859878AE3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0213A-E827-4291-B9C8-838D873EC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C6A8A-6267-42A2-B559-F638D104FD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ABAD7-F0C5-4A60-A1EA-0703C7EB31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81E84-D77A-4BC3-99EE-4F96C789FB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C22F4-3BAE-4C00-A636-F78D93AF1F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D19794-1B25-45F6-B1DD-6E3DB15C19DA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429000" y="5105520"/>
            <a:ext cx="4070520" cy="1428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Dec 201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Parameter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3505320" y="1114560"/>
            <a:ext cx="1060200" cy="257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4092480" y="1631160"/>
            <a:ext cx="4953240" cy="27288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7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497400" y="2443320"/>
            <a:ext cx="1143000" cy="212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5057640" y="4714560"/>
            <a:ext cx="39880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Hello_New_String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3795840" y="3603240"/>
            <a:ext cx="5249880" cy="63864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Query Parameter Basic Typ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str_param_handle.get_basic_typ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Return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“4” (std::string type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4218120" y="2733840"/>
            <a:ext cx="4827600" cy="63792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string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8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17"/>
          <p:cNvSpPr/>
          <p:nvPr/>
        </p:nvSpPr>
        <p:spPr>
          <a:xfrm>
            <a:off x="3809880" y="1425600"/>
            <a:ext cx="5181840" cy="126360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Query the latest write originator </a:t>
            </a:r>
            <a:r>
              <a:rPr b="1" lang="en-US" sz="11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const cci::cci_originator* </a:t>
            </a:r>
            <a:br>
              <a:rPr sz="1100"/>
            </a:b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                  str_originator = str_param_handle.get_latest_write_originator();</a:t>
            </a:r>
            <a:br>
              <a:rPr sz="11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Name of the latest write originator : 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str_originator.get_name();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Returns Originator :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param_cfgr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18"/>
          <p:cNvSpPr/>
          <p:nvPr/>
        </p:nvSpPr>
        <p:spPr>
          <a:xfrm>
            <a:off x="3429000" y="1104840"/>
            <a:ext cx="1143000" cy="2286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10"/>
          <p:cNvSpPr/>
          <p:nvPr/>
        </p:nvSpPr>
        <p:spPr>
          <a:xfrm>
            <a:off x="4546440" y="3752640"/>
            <a:ext cx="44452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instance of cci_value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rx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11"/>
          <p:cNvSpPr/>
          <p:nvPr/>
        </p:nvSpPr>
        <p:spPr>
          <a:xfrm>
            <a:off x="4014720" y="4696200"/>
            <a:ext cx="4978440" cy="82116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CCI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 = str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String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ed String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4352760" y="2999520"/>
            <a:ext cx="4638960" cy="4554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s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_param_handle.get_cci_value().to_json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Line 2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4368960" y="108252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0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304920" y="1532160"/>
            <a:ext cx="452124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String_Value_Set_by_OWNER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4"/>
          <p:cNvSpPr/>
          <p:nvPr/>
        </p:nvSpPr>
        <p:spPr>
          <a:xfrm>
            <a:off x="4368960" y="243828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8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15"/>
          <p:cNvSpPr/>
          <p:nvPr/>
        </p:nvSpPr>
        <p:spPr>
          <a:xfrm>
            <a:off x="380880" y="2865600"/>
            <a:ext cx="444528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object of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  rec_str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6"/>
          <p:cNvSpPr/>
          <p:nvPr/>
        </p:nvSpPr>
        <p:spPr>
          <a:xfrm>
            <a:off x="380880" y="3986280"/>
            <a:ext cx="3810240" cy="6379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CCI Value (S) 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ec_str_value  =  string_param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380880" y="4759200"/>
            <a:ext cx="3997440" cy="100368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new string value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d::string recv_str  = rec_str_value.get_string();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string :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String_Value_Set_by_OWNER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ex07_Parameter_Information.log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Content Placeholder 4"/>
          <p:cNvSpPr/>
          <p:nvPr/>
        </p:nvSpPr>
        <p:spPr>
          <a:xfrm>
            <a:off x="380880" y="1139760"/>
            <a:ext cx="868680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'param_owner.mutable_string_param' value to 'Initialized within sc_main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Demonstrating 'comparison' between the values of a data type for different mutability typ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'mutable' &amp; 'immutable' type String parameters - VALUES MAT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parameter_owner module declares two cci type parameter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One is of 'Integer type' and the other is of 'String type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'Integer type' has 'pre_read', 'pre/post_write' callback registered within the OBSERV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ription - 'This is a mutable type integer parameter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_owner.mutable_string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reset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0 s, [OBSERVER C_TOR] : Broker Type : DEFAULT_BROKER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_owner.mutable_int_param default value hasn't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@ 1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[OWNER -&gt; Set] : Overriding default value of param_owner.mutable_int_param to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int_param value has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string_param New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4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value :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metadata : {"min_value":["0","Minimum value"],"max_value":["100","Maximum value"],"unit":["F","Unit of the parameter (Farad)"]}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 param_owner.mutable_int_param value to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0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value: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@ 12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eter 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@ 14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_owner.mutable_int_param is in 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eter un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@ 1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@ 2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set_value()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] : Parameter Description : This is a mutable type string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 -&gt; Set] : Get Basic Type using 'get_basic_type()' : 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latest_write_originator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Originator for the latest write on string type cci-parameter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value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'Retrieve1' using 'json_serialize' and 'Retrieve2' using 'ge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1] : param_owner.mutable_string_param value is "Hello_New_String"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2] : Hello_New_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@ 26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sett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[OWNER -&gt; Set] : New String Value : '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@ 28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retriev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[OWNER -&gt; Retrieve] : Receive str_value using 'cci_value' : 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Various Attributes of 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CI Parame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28600" y="12859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8520" indent="-2937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functionality have been demonstrated in this example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808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•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ting and querying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description/documentation/meta-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valid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locked sta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orig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Parameter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6248520" y="2232000"/>
            <a:ext cx="2133360" cy="30492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-32365"/>
              <a:gd name="adj5" fmla="val -358814"/>
              <a:gd name="adj6" fmla="val -63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9"/>
          <p:cNvSpPr/>
          <p:nvPr/>
        </p:nvSpPr>
        <p:spPr>
          <a:xfrm>
            <a:off x="2666880" y="2295360"/>
            <a:ext cx="2057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9722"/>
              <a:gd name="adj5" fmla="val -57935"/>
              <a:gd name="adj6" fmla="val -13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ing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0"/>
          <p:cNvSpPr/>
          <p:nvPr/>
        </p:nvSpPr>
        <p:spPr>
          <a:xfrm>
            <a:off x="152280" y="2219400"/>
            <a:ext cx="2057400" cy="68580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104782"/>
              <a:gd name="adj5" fmla="val -40500"/>
              <a:gd name="adj6" fmla="val 1051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nteger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630360" y="4143240"/>
            <a:ext cx="75438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 please go see examples 8, 11 and 12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6"/>
          <p:cNvSpPr/>
          <p:nvPr/>
        </p:nvSpPr>
        <p:spPr>
          <a:xfrm>
            <a:off x="5638680" y="3048120"/>
            <a:ext cx="2895840" cy="95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2592"/>
                </a:moveTo>
                <a:lnTo>
                  <a:pt x="23459" y="2592"/>
                </a:lnTo>
                <a:lnTo>
                  <a:pt x="23459" y="-4320"/>
                </a:lnTo>
                <a:lnTo>
                  <a:pt x="20449" y="-1500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different types of callbacks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(pre_read, pre_write &amp; post_write)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on the parameters of interest to monitor their activities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7"/>
          <p:cNvSpPr/>
          <p:nvPr/>
        </p:nvSpPr>
        <p:spPr>
          <a:xfrm>
            <a:off x="873000" y="5448240"/>
            <a:ext cx="377532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 be displayed by the following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hap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571500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1200"/>
                </a:moveTo>
                <a:lnTo>
                  <a:pt x="-4230" y="1200"/>
                </a:lnTo>
                <a:lnTo>
                  <a:pt x="-4230" y="5800"/>
                </a:lnTo>
                <a:lnTo>
                  <a:pt x="-4110" y="157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685800" y="4724280"/>
            <a:ext cx="44956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parameter :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get_name()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originator.name();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6"/>
          <p:cNvSpPr/>
          <p:nvPr/>
        </p:nvSpPr>
        <p:spPr>
          <a:xfrm>
            <a:off x="1981080" y="3438360"/>
            <a:ext cx="2133720" cy="304920"/>
          </a:xfrm>
          <a:prstGeom prst="borderCallout2">
            <a:avLst>
              <a:gd name="adj1" fmla="val 18750"/>
              <a:gd name="adj2" fmla="val -8333"/>
              <a:gd name="adj3" fmla="val 58472"/>
              <a:gd name="adj4" fmla="val 133791"/>
              <a:gd name="adj5" fmla="val -752259"/>
              <a:gd name="adj6" fmla="val 132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eter Containe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8"/>
          <p:cNvSpPr/>
          <p:nvPr/>
        </p:nvSpPr>
        <p:spPr>
          <a:xfrm>
            <a:off x="4600440" y="987480"/>
            <a:ext cx="9720" cy="525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2260440" y="2829240"/>
            <a:ext cx="469908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e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3598920" y="53352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1897200" y="1959480"/>
            <a:ext cx="542592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e(“sc_main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646200" y="3910680"/>
            <a:ext cx="7927920" cy="100368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preset value using broker handle that overrides the default value passed as argument to the constructor of the sc_modu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loberBroker.set_preset_cci_value(“param_owner.mutable_string_param”,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cci_value(“Initialized within sc_main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228600" y="4959360"/>
            <a:ext cx="87631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Demonstrating value comparison for different mutability types with the same data typ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76320" y="5488920"/>
            <a:ext cx="906768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l the three mutability type cci-parameters of std::string type inside parameter container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MUTABLE_PARAM &gt;  mutab_str_param (“string_mutab_param”,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1887480" y="1083960"/>
            <a:ext cx="542628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gister a global brok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register_broker(new cci_utils::broker(“DEFAULT_BROKER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Line 3"/>
          <p:cNvSpPr/>
          <p:nvPr/>
        </p:nvSpPr>
        <p:spPr>
          <a:xfrm>
            <a:off x="1863720" y="48038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5989680" y="4267080"/>
            <a:ext cx="2790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72960" y="437508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7540560" y="4987800"/>
            <a:ext cx="1479600" cy="58608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7335720" y="480528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506680" y="4795920"/>
            <a:ext cx="4205160" cy="11862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class(“observ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838080" y="1372320"/>
            <a:ext cx="794232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IMMUTABLE_PARAM&gt; immutab_str_param (“string_immutab_param”, 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1389240" y="2550960"/>
            <a:ext cx="644184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  :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utab_str_param.get_value() == immutable_str_param. get_value()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?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Returns :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362320" y="3775320"/>
            <a:ext cx="4572000" cy="6397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the instantiation of the mod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1"/>
          <p:cNvSpPr/>
          <p:nvPr/>
        </p:nvSpPr>
        <p:spPr>
          <a:xfrm>
            <a:off x="3232080" y="1066680"/>
            <a:ext cx="17640" cy="502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2"/>
          <p:cNvSpPr/>
          <p:nvPr/>
        </p:nvSpPr>
        <p:spPr>
          <a:xfrm>
            <a:off x="498168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138096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1147680" y="1485000"/>
            <a:ext cx="2851200" cy="82116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(“mutable_int_param, 0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628640" y="2363400"/>
            <a:ext cx="320544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(“mutable_string_param”, “Default_value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4006800" y="1335240"/>
            <a:ext cx="18162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1995480" y="3834360"/>
            <a:ext cx="2473200" cy="82116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get_default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0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1006560" y="4839120"/>
            <a:ext cx="4500360" cy="100368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onst std::string init_doc = “This is a mutable type integer parameter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set_documentation(init_doc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7013520" y="1058760"/>
            <a:ext cx="30240" cy="427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5261040" y="1983240"/>
            <a:ext cx="3564000" cy="100368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Declare base pointers and check the existence of the integer and string type parameters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int_param_handle;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str_param_handle;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7419960" y="5210280"/>
            <a:ext cx="1479600" cy="58572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12"/>
          <p:cNvSpPr/>
          <p:nvPr/>
        </p:nvSpPr>
        <p:spPr>
          <a:xfrm>
            <a:off x="1693800" y="865080"/>
            <a:ext cx="3075120" cy="63864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int&gt; int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std::string&gt; string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17"/>
          <p:cNvSpPr/>
          <p:nvPr/>
        </p:nvSpPr>
        <p:spPr>
          <a:xfrm>
            <a:off x="703440" y="3380040"/>
            <a:ext cx="4038480" cy="27360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18"/>
          <p:cNvSpPr/>
          <p:nvPr/>
        </p:nvSpPr>
        <p:spPr>
          <a:xfrm>
            <a:off x="5291280" y="3215160"/>
            <a:ext cx="35049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-&gt;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3886200" y="1006560"/>
            <a:ext cx="1046160" cy="288720"/>
          </a:xfrm>
          <a:prstGeom prst="roundRect">
            <a:avLst>
              <a:gd name="adj" fmla="val 30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4572000" y="1320480"/>
            <a:ext cx="44067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95400" y="1711440"/>
            <a:ext cx="91440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8"/>
          <p:cNvSpPr/>
          <p:nvPr/>
        </p:nvSpPr>
        <p:spPr>
          <a:xfrm>
            <a:off x="4254480" y="4679640"/>
            <a:ext cx="4724280" cy="100368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“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_owner.mutable_string_param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.get_cci_value()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Initialized within sc_main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685800" y="2133720"/>
            <a:ext cx="2357280" cy="504720"/>
          </a:xfrm>
          <a:prstGeom prst="roundRect">
            <a:avLst>
              <a:gd name="adj" fmla="val 31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4138560" y="3769920"/>
            <a:ext cx="4829400" cy="638640"/>
          </a:xfrm>
          <a:prstGeom prst="roundRect">
            <a:avLst>
              <a:gd name="adj" fmla="val 22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543800" y="3235320"/>
            <a:ext cx="914400" cy="3459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4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17"/>
          <p:cNvSpPr/>
          <p:nvPr/>
        </p:nvSpPr>
        <p:spPr>
          <a:xfrm>
            <a:off x="1981080" y="281952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7700"/>
                </a:lnTo>
                <a:lnTo>
                  <a:pt x="6920" y="-127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048120" y="3724200"/>
            <a:ext cx="914400" cy="314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4908600" y="4085280"/>
            <a:ext cx="4110120" cy="456120"/>
          </a:xfrm>
          <a:prstGeom prst="roundRect">
            <a:avLst>
              <a:gd name="adj" fmla="val 30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set_cci_value(cci::cci_value(10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4191120" y="1392840"/>
            <a:ext cx="4827600" cy="2281320"/>
          </a:xfrm>
          <a:prstGeom prst="roundRect">
            <a:avLst>
              <a:gd name="adj" fmla="val 7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Metadata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metadata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124080" y="1011240"/>
            <a:ext cx="91440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5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1996920" y="229536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4165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3352680" y="502920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00"/>
                </a:moveTo>
                <a:lnTo>
                  <a:pt x="-3588" y="3600"/>
                </a:lnTo>
                <a:lnTo>
                  <a:pt x="-3588" y="-20000"/>
                </a:lnTo>
                <a:lnTo>
                  <a:pt x="12072" y="-22189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5789B-6FB9-4F12-BE9E-BFE818D684A3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2779560" y="321156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3984480" y="363492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4114800" y="1324800"/>
            <a:ext cx="4827600" cy="173376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0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2895480" y="1011240"/>
            <a:ext cx="101124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6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2779560" y="436392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1"/>
          <p:cNvSpPr/>
          <p:nvPr/>
        </p:nvSpPr>
        <p:spPr>
          <a:xfrm>
            <a:off x="3984480" y="491148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n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un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13"/>
          <p:cNvSpPr/>
          <p:nvPr/>
        </p:nvSpPr>
        <p:spPr>
          <a:xfrm>
            <a:off x="1981080" y="228600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3482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P V S Phaneendra</dc:creator>
  <dc:description/>
  <cp:keywords>CTPClassification=CTP_IC:VisualMarkings=</cp:keywords>
  <dc:language>en-US</dc:language>
  <cp:lastModifiedBy>Wieman, Trevor</cp:lastModifiedBy>
  <cp:lastPrinted>2017-01-29T19:35:36Z</cp:lastPrinted>
  <dcterms:modified xsi:type="dcterms:W3CDTF">2017-12-15T20:28:53Z</dcterms:modified>
  <cp:revision>126</cp:revision>
  <dc:subject/>
  <dc:title>ex7_Parameter_Inform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28:52Z</vt:lpwstr>
  </property>
  <property fmtid="{D5CDD505-2E9C-101B-9397-08002B2CF9AE}" pid="5" name="TitusGUID">
    <vt:lpwstr>9c3cd9ca-52ed-4274-8e98-0bc921084663</vt:lpwstr>
  </property>
</Properties>
</file>