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A28A5-F06F-4BE3-819F-DD90B3F60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77EF2C-43F9-4ABF-882B-1095CD236E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E1198-66DE-46C5-B38F-B922405A02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590E1-4A83-4EE0-9138-52F0401D5D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96E35-6328-4BC2-AD28-8E94318307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3FCB7-A90F-41B4-AC27-3D3834C7B7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2AD22-52AF-4C74-9038-A812872D76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27BAC-D823-47CA-8AF9-CE9B48799A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FED40-321A-4034-BBF3-44EAE06DEB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70986-B686-4FA2-8095-8FAD08017B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1A581-008B-48BB-9BCA-362AD34794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3DB2D-2AE5-40A6-9524-FA05116DEA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0201B-3C25-47E7-A010-D0E4A5CAF0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46F47-4AA8-4A0F-89A1-76FD646D3C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B74DB-D0DF-4E9E-9F08-162A802657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DCFBB8-294F-44B1-B13F-A27F023F16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C422E-8752-4E78-9CC6-C2CB23C2A3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88C38-3015-4345-BF13-A78394C8C5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24816-4D5F-428E-88DE-53EF4F5DC3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01204-1FB6-431D-A2B6-0B18452CA8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7B2563-7BC7-461F-A122-677D7236A1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78DB4-5996-4605-ABB7-617A20EA74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33D6D2-3CD1-4848-BA15-F5EC82D54C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BEB2C-1283-4EB2-9FDF-7279E588A1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70F3C4-4E59-45F7-ADE5-4D27C9ACAC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53137-7EAD-4B64-8FCC-BF48CD9203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394592-3EF3-42FC-8488-9202E3151C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717C02-D801-48E0-9744-F8168BBC08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3983EE-B97D-42B0-AE09-B9703517EE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61AE53-030F-48D0-A1FA-01255F18FC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AD0FB0-2668-467A-8C8E-596CD75F4B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4D487-7F76-4C0A-BBC0-F389CF6F33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484590-A597-4A32-A6CE-293818AC1A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9383C-650F-4D63-A326-51E3209845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C6328-581C-4934-8076-8EB52A6A30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C92DA-5218-4950-BE09-77B68FF189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97A70-610E-4BA3-A494-98D82B82F8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5E9C0-E4FE-4CA0-86DD-90369C4283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E2FFC-F0B3-4ED1-9FBC-AA1AC1FCB4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55C10-AC41-49A0-9164-AC03DF3350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0F0B1-7505-4FF0-8DF5-5AFB4ECFBBA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51FCD-F823-4109-BB95-DB25228CC68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9670A-D08B-4925-B318-95209C863BE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38F36-E119-4161-B54E-D2F55592F16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129FD-3EA1-4169-8A1C-8E91E471AE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D48A9-B98D-497D-AC42-DEA1AAC251D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D633A-B76F-4CDD-A266-FB2283DDD1F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28240-07FE-408C-A874-3DD579251E3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B316D-E5D1-452B-99C4-A733BFE43A4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09E03-05CC-4556-A3FD-12B6FFE4ED0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AE2D5-A565-43C2-8FA1-63BDD355127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3322C-4D44-4FAB-9C73-CFB1E4FBB2B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65EEC-49CA-4315-B304-32B2586308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09E72-D38C-424F-908D-5135874353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BFB5A-5E63-4B26-883D-BDCA71775F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3DF51-D692-4CE2-87E5-451CABD996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982A4-BDA1-40E3-895C-012298FB2A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42E34-9751-485E-A52F-2939DB2AF2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59EC3-0DCF-4C39-9575-B10F016E47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59FEC-CF6C-444B-9A67-61135A6F1B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1A47E2DD-F45D-4826-98EA-104F898E3B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Tracing Parameter Activity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trieving handle for newly created cci_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Name : param_owner.doubl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has been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Value : 12.3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gistering other callbacks on the newly created cci-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racing Parameter Activ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nfigurator perspective: show how to use the parameter creation callback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Report the creation and modification of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3"/>
          <p:cNvSpPr/>
          <p:nvPr/>
        </p:nvSpPr>
        <p:spPr>
          <a:xfrm>
            <a:off x="609480" y="3733920"/>
            <a:ext cx="2895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angle 34"/>
          <p:cNvSpPr/>
          <p:nvPr/>
        </p:nvSpPr>
        <p:spPr>
          <a:xfrm>
            <a:off x="6095880" y="3733920"/>
            <a:ext cx="2667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37"/>
          <p:cNvSpPr/>
          <p:nvPr/>
        </p:nvSpPr>
        <p:spPr>
          <a:xfrm>
            <a:off x="457200" y="68580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.cpp (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estbench fi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8"/>
          <p:cNvSpPr/>
          <p:nvPr/>
        </p:nvSpPr>
        <p:spPr>
          <a:xfrm>
            <a:off x="457200" y="1066680"/>
            <a:ext cx="800100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itialize and register global broker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register_broker(new cci_utils::broker(“My Global Broker”));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tantiate the </a:t>
            </a:r>
            <a:r>
              <a:rPr b="0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class (which registers various callbacks to trace cci-parameters 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activities)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ter, instantiate the </a:t>
            </a:r>
            <a:r>
              <a:rPr b="0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_owner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modul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_inst;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                                        // A simple C++ Class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_owner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_owner(“param_owner”);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</a:t>
            </a:r>
            <a:r>
              <a:rPr b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// 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 Owner modul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40"/>
          <p:cNvSpPr/>
          <p:nvPr/>
        </p:nvSpPr>
        <p:spPr>
          <a:xfrm>
            <a:off x="3733920" y="2666880"/>
            <a:ext cx="1752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.cp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8" name="Straight Arrow Connector 43"/>
          <p:cNvCxnSpPr>
            <a:stCxn id="187" idx="2"/>
            <a:endCxn id="183" idx="0"/>
          </p:cNvCxnSpPr>
          <p:nvPr/>
        </p:nvCxnSpPr>
        <p:spPr>
          <a:xfrm flipH="1">
            <a:off x="2057040" y="3047760"/>
            <a:ext cx="25531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Straight Arrow Connector 45"/>
          <p:cNvCxnSpPr>
            <a:stCxn id="187" idx="2"/>
            <a:endCxn id="184" idx="0"/>
          </p:cNvCxnSpPr>
          <p:nvPr/>
        </p:nvCxnSpPr>
        <p:spPr>
          <a:xfrm>
            <a:off x="4610160" y="3047760"/>
            <a:ext cx="282024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0" name="Rectangle 46"/>
          <p:cNvSpPr/>
          <p:nvPr/>
        </p:nvSpPr>
        <p:spPr>
          <a:xfrm>
            <a:off x="228600" y="4267080"/>
            <a:ext cx="4267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OLE 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tantiate few cci-paramet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param&lt;int&gt;    *      int_param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param&lt;float&gt; *     float_param;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ake changes to their values during simul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Rectangle 47"/>
          <p:cNvSpPr/>
          <p:nvPr/>
        </p:nvSpPr>
        <p:spPr>
          <a:xfrm>
            <a:off x="4724280" y="4114800"/>
            <a:ext cx="41911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OLE 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t handle for the </a:t>
            </a: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lobal broker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callbacks for notifying creation of new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other callback by getting hold of the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 handle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Straight Connector 28"/>
          <p:cNvSpPr/>
          <p:nvPr/>
        </p:nvSpPr>
        <p:spPr>
          <a:xfrm flipH="1">
            <a:off x="7237440" y="41148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Straight Connector 28"/>
          <p:cNvSpPr/>
          <p:nvPr/>
        </p:nvSpPr>
        <p:spPr>
          <a:xfrm>
            <a:off x="2286000" y="4191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ectangle 13"/>
          <p:cNvSpPr/>
          <p:nvPr/>
        </p:nvSpPr>
        <p:spPr>
          <a:xfrm>
            <a:off x="2666880" y="114300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Straight Connector 28"/>
          <p:cNvSpPr/>
          <p:nvPr/>
        </p:nvSpPr>
        <p:spPr>
          <a:xfrm flipH="1">
            <a:off x="1598760" y="1676520"/>
            <a:ext cx="144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15"/>
          <p:cNvSpPr/>
          <p:nvPr/>
        </p:nvSpPr>
        <p:spPr>
          <a:xfrm>
            <a:off x="2971800" y="1828800"/>
            <a:ext cx="58672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t global broker 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originator observer_originator("observer")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broker_handle(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get_global_broker(observer_originator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2819520" y="3733920"/>
            <a:ext cx="624816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a callback to notify the creation of cci-parameters of the parameter_owner modules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m_broker.register_crea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c_bind(&amp;ex20_observer::config_new_param_callback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his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c_unnamed::_1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33"/>
          <p:cNvSpPr/>
          <p:nvPr/>
        </p:nvSpPr>
        <p:spPr>
          <a:xfrm>
            <a:off x="152280" y="914400"/>
            <a:ext cx="2895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00600" y="1600200"/>
            <a:ext cx="3581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Various other callbacks registratio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Straight Connector 28"/>
          <p:cNvSpPr/>
          <p:nvPr/>
        </p:nvSpPr>
        <p:spPr>
          <a:xfrm flipH="1">
            <a:off x="1598760" y="1676520"/>
            <a:ext cx="144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2057400" y="2057400"/>
            <a:ext cx="7010280" cy="373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ithin the callback implementation of the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fig_new_param_callback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function, register other callback functions for monitoring </a:t>
            </a: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ad, writ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activities on to the cci-parameter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// Get reference of newly created cci-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base_handle = m_broker.get_param_handle(param_handle.get_name(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// Register pre-read, pre/post-write callbac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re_read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re_read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re_wri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re_write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ost_wri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ost_write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2743200" y="10666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2895480" y="114300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380880" y="1676520"/>
            <a:ext cx="44960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t default value to the integer-type cci-parameter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  =  new cci::cnf::cci_param&lt;int&gt;(“int_param”, 10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4724280" y="2514600"/>
            <a:ext cx="3733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 has been create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4724280" y="3276720"/>
            <a:ext cx="37339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trieve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andle for the ‘int_param’ cci-parameter 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d stores it to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4724280" y="4114800"/>
            <a:ext cx="3962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read callback using </a:t>
            </a: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new_param_handle</a:t>
            </a:r>
            <a:br>
              <a:rPr sz="1400"/>
            </a:b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write callback using new_param_handle</a:t>
            </a:r>
            <a:br>
              <a:rPr sz="1400"/>
            </a:b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ost_write callback using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3505320" y="11430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0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380880" y="1752480"/>
            <a:ext cx="3048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t  (arbitrary) new value to the </a:t>
            </a:r>
            <a:r>
              <a:rPr b="0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*int_param = 15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Rectangle 15"/>
          <p:cNvSpPr/>
          <p:nvPr/>
        </p:nvSpPr>
        <p:spPr>
          <a:xfrm>
            <a:off x="4648320" y="2362320"/>
            <a:ext cx="403848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read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write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read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st_write activity on the ‘int_param’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15"/>
          <p:cNvSpPr/>
          <p:nvPr/>
        </p:nvSpPr>
        <p:spPr>
          <a:xfrm>
            <a:off x="4191120" y="4419720"/>
            <a:ext cx="243828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75" y="2492"/>
                </a:moveTo>
                <a:lnTo>
                  <a:pt x="-5330" y="2492"/>
                </a:lnTo>
                <a:lnTo>
                  <a:pt x="-5330" y="-8688"/>
                </a:lnTo>
                <a:lnTo>
                  <a:pt x="8466" y="-21392"/>
                </a:lnTo>
              </a:path>
              <a:path w="21600" h="21600">
                <a:moveTo>
                  <a:pt x="-675" y="0"/>
                </a:moveTo>
                <a:lnTo>
                  <a:pt x="-675" y="216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re_read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callback is called because value of the parameter is read within th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pre_write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post_write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callbac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Rectangle 15"/>
          <p:cNvSpPr/>
          <p:nvPr/>
        </p:nvSpPr>
        <p:spPr>
          <a:xfrm>
            <a:off x="380880" y="1676520"/>
            <a:ext cx="5029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reate and set default value to the float-type cci-parameter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oat_param  =  new cci::cnf::cci_param&lt;int&gt;(“float_param”, 12.345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4724280" y="2514600"/>
            <a:ext cx="3733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oat_param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 has been create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Rectangle 15"/>
          <p:cNvSpPr/>
          <p:nvPr/>
        </p:nvSpPr>
        <p:spPr>
          <a:xfrm>
            <a:off x="4724280" y="3276720"/>
            <a:ext cx="38862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trieve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andle for the ‘float_param’ cci-parameter 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d stores it to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Rectangle 15"/>
          <p:cNvSpPr/>
          <p:nvPr/>
        </p:nvSpPr>
        <p:spPr>
          <a:xfrm>
            <a:off x="4724280" y="4114800"/>
            <a:ext cx="3962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read callback using </a:t>
            </a: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new_param_handle</a:t>
            </a:r>
            <a:br>
              <a:rPr sz="1400"/>
            </a:b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write callback using new_param_handle</a:t>
            </a:r>
            <a:br>
              <a:rPr sz="1400"/>
            </a:b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ost_write callback using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3657600" y="11430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5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20_Tracing_Parameter_Activity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Creating new integer type cci-parameter with default value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trieving handle for newly created cci_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has been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gistering other callbacks on the newly created cci-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Setting new value to the 'int' type param to '15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re_write_cb] : Retrieving details of new cci-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re_write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ost_write_cb] : Retrieving details of new cci-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ost_write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Creating new 'double' type cci-parameter with default value : 12.3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01:25:28Z</dcterms:modified>
  <cp:revision>82</cp:revision>
  <dc:subject/>
  <dc:title>ex20_Tracing_Parameter_Activ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1:25:27Z</vt:lpwstr>
  </property>
  <property fmtid="{D5CDD505-2E9C-101B-9397-08002B2CF9AE}" pid="5" name="TitusGUID">
    <vt:lpwstr>c510a3f5-05aa-41bf-bec3-42483cac079d</vt:lpwstr>
  </property>
</Properties>
</file>