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E0B9-6BE4-4B53-8658-FF08DF131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2D32-A3B8-41E5-84A9-1FA265DDD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1083-0FA1-43B6-A7A9-09CC42926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3E36-BA4B-4023-90F0-5CF06E55F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D48B-9289-4D92-A9D7-AEA7C4542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C543-2716-4A77-80B6-F348679F0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5FD1-CAA6-4B3B-96F4-2FFA444FE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4945F-40AA-4989-BEEE-F41FBB017C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44484-07D7-4C46-9BE7-C521360358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93810-E556-4D59-8900-BC40041AFF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DF164-47B1-4A2A-B2DC-109739CE4A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22DE8-78CB-498A-9F82-08E6C9325C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319FC-C45F-4904-BF4E-C4FA70E236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DA28B-B308-4C75-9140-DE3E2271DB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1DB9E-11AD-471D-BAEC-4B324DE9FA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DCDAE-90C7-43C7-A21F-83B9FA8899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BFB67-EDEC-4EC8-B08E-607CBF5B7E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6B964-C42E-4C30-8AD5-3E29DB6804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9DA10-6848-4E11-BBD5-5518119FED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F9C0-95BC-4FF8-B47B-7C1A7986E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arch Predicate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SCI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al Podd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ember 20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Search Predicat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wner module simple_ip has CCI parameters of different data typ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odule search_ip performs various searches and reports the matching paramet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is example, module search_ip performs the following parameter search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 value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ng value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value greater than or equal to 3 and smaller than 8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 name contains the character ‘t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CI parameters representing basic data types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787400" y="1322280"/>
            <a:ext cx="1989360" cy="436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3" name="Straight Arrow Connector 16"/>
          <p:cNvCxnSpPr>
            <a:stCxn id="92" idx="2"/>
          </p:cNvCxnSpPr>
          <p:nvPr/>
        </p:nvCxnSpPr>
        <p:spPr>
          <a:xfrm flipH="1">
            <a:off x="2775960" y="1758600"/>
            <a:ext cx="684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Folded Corner 41"/>
          <p:cNvSpPr/>
          <p:nvPr/>
        </p:nvSpPr>
        <p:spPr>
          <a:xfrm>
            <a:off x="3062160" y="2081160"/>
            <a:ext cx="3048120" cy="157644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bool&gt; bool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ci_param&lt;char&gt; char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unsigned char&gt; uchar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unsigned int&gt; uin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cci_param&lt;float&gt; floa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ci_param&lt;double&gt; double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std::string&gt; string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ounded Rectangular Callout 44"/>
          <p:cNvSpPr/>
          <p:nvPr/>
        </p:nvSpPr>
        <p:spPr>
          <a:xfrm>
            <a:off x="449280" y="5342040"/>
            <a:ext cx="2173320" cy="58896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CI parameter ‘Owner’ module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he search_ip module which search sim_ip’s parameter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1787400" y="1143000"/>
            <a:ext cx="1989360" cy="404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arch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8" name="Straight Arrow Connector 16"/>
          <p:cNvCxnSpPr>
            <a:stCxn id="97" idx="2"/>
          </p:cNvCxnSpPr>
          <p:nvPr/>
        </p:nvCxnSpPr>
        <p:spPr>
          <a:xfrm flipH="1">
            <a:off x="2775960" y="1547640"/>
            <a:ext cx="6840" cy="438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9" name="Folded Corner 41"/>
          <p:cNvSpPr/>
          <p:nvPr/>
        </p:nvSpPr>
        <p:spPr>
          <a:xfrm>
            <a:off x="3062160" y="279252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Integers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bool integer_type_predicate(const cci_param_untyped_handle handle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ounded Rectangular Callout 44"/>
          <p:cNvSpPr/>
          <p:nvPr/>
        </p:nvSpPr>
        <p:spPr>
          <a:xfrm>
            <a:off x="449280" y="5342040"/>
            <a:ext cx="2173320" cy="58896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earches simple_ip’s parameter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Folded Corner 41"/>
          <p:cNvSpPr/>
          <p:nvPr/>
        </p:nvSpPr>
        <p:spPr>
          <a:xfrm>
            <a:off x="3062160" y="351468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tring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bool string_type_predicate(const cci_param_untyped_handle handle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Folded Corner 41"/>
          <p:cNvSpPr/>
          <p:nvPr/>
        </p:nvSpPr>
        <p:spPr>
          <a:xfrm>
            <a:off x="3062160" y="4210200"/>
            <a:ext cx="5753160" cy="56988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Numbers greater that or equal to 3 and smaller than 85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l value_in_range_predicate(const cci_param_untyped_handle handle, double greater_eq, double lower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Folded Corner 41"/>
          <p:cNvSpPr/>
          <p:nvPr/>
        </p:nvSpPr>
        <p:spPr>
          <a:xfrm>
            <a:off x="3062160" y="5067360"/>
            <a:ext cx="5753160" cy="56988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Parameter name contains at least ‘t’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l name_contains_character_predicate( const cci_param_untyped_handle handle, const char character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Folded Corner 41"/>
          <p:cNvSpPr/>
          <p:nvPr/>
        </p:nvSpPr>
        <p:spPr>
          <a:xfrm>
            <a:off x="3062160" y="206856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Original List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lays the original list of parameters in simple_ip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22_Search_Predicate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0880" y="927000"/>
            <a:ext cx="868680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bool_param is 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char_param is 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uchar_param is 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_param is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uint_param is 0xfeedf00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float_param is 3.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double_param is 2.7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string_param is C++ Str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Original li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bool_param = tru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double_param = 2.7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“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char_param = 8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88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Integers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char_param = 8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String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"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Numbers greater than or equal to 3 and smaller than 85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Parameter name contains at least 't'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"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15:52:42Z</dcterms:modified>
  <cp:revision>184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52:42Z</vt:lpwstr>
  </property>
  <property fmtid="{D5CDD505-2E9C-101B-9397-08002B2CF9AE}" pid="5" name="TitusGUID">
    <vt:lpwstr>9e508fab-0d4d-42f6-bb4e-875dc6a2e392</vt:lpwstr>
  </property>
</Properties>
</file>