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AutoShape 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AutoShape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AutoShape 1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AutoShape 1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AutoShape 1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AutoShape 1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AutoShape 1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AutoShape 1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AutoShape 1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AutoShape 1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AutoShape 1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Rectangle 20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Freeform 2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Freeform 2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Freeform 2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Freeform 2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Freeform 2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Freeform 2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Freeform 2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Freeform 2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Freeform 3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Freeform 3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Freeform 3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Freeform 3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Freeform 3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Freeform 3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Freeform 3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Freeform 3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Freeform 3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Freeform 3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Freeform 4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Freeform 4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Freeform 4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Freeform 4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Freeform 4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Freeform 4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Freeform 4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Freeform 4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Freeform 4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Freeform 4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Freeform 5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Freeform 51"/>
          <p:cNvSpPr/>
          <p:nvPr/>
        </p:nvSpPr>
        <p:spPr>
          <a:xfrm>
            <a:off x="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Freeform 52"/>
          <p:cNvSpPr/>
          <p:nvPr/>
        </p:nvSpPr>
        <p:spPr>
          <a:xfrm>
            <a:off x="388476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494240" cy="33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Freeform 55"/>
          <p:cNvSpPr/>
          <p:nvPr/>
        </p:nvSpPr>
        <p:spPr>
          <a:xfrm>
            <a:off x="0" y="868536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715869-A2BF-461A-AF0A-E9B4854401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47999E-5503-4326-AC24-86D2F2A6494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2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E5781C-5EFB-441E-8BD7-5DC1CC55A6B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3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A3E35E-A48B-46B3-BD04-10201D8F0B4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4" name="AutoShape 3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C970F0-9989-4816-8CF7-A7A5E75833A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255F74-CE9B-4130-9F1C-DEF9110612C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8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326BBD-3D27-45AD-88B6-4215C8D4049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9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FF3D66-F817-4B80-B957-089D85F25CC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D23674-9AD8-40A6-B85C-720CC302B67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2D728C-5F8D-4ACA-821A-56A1F63AE1D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4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B4A82E-2AA5-49E6-BD08-AA666EFDC52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5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40E476-E632-43FC-B793-02D877C7321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9F85D0-0376-4BBC-869E-7376B7CD4E0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3523CA-BCFB-4500-A800-8A3FF70A271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0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5B96BD-3E4C-4BB5-9E63-2FD9BC20DAD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1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95E175-9672-438E-9E2D-93E33734335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56FCF6-89B2-4DFA-A6E0-7B920CD19D0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087B13-6968-4DFD-B3E9-19C1FE3AC08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6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2E36AF-EF84-430B-A866-9A6C3746D52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7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161F27-BAB9-4040-B2A7-40AFC3C4844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D008AF-9B5D-4090-A767-EC0F7A6BFD0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360492-F790-4F53-87F4-2BD84017D02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2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CE940C-64A7-4A53-9F81-4B4E106D732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3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0C7F9C-C5C5-4CA2-97FE-199C980B3C4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297EB9-B7F7-47DF-B762-77F88751D45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7D2783-A39B-451B-B21C-4579151E2DD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8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1454B4-8754-483D-B5AC-8482624166D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9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91EA93-1562-4EED-AD37-B4CC2378BE7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03E3EF-BB6C-4E8B-BEB3-C4C61AFE711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55600" y="685800"/>
            <a:ext cx="4469040" cy="335124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3FAC60-AB77-48C8-BF7F-4399CBC6B2B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55600" y="685800"/>
            <a:ext cx="4469040" cy="335124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70DBD6-9793-4B57-B46D-6CF79AD2011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687C2-35B4-4D54-BEBA-39FF7FED5F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97115-EA9A-4836-983F-FEEC246AE5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AEA69-6FE4-40F6-8217-DB12F8E2C3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6F338-F432-40F2-80DD-911F3DB6DD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6D567-A0E9-42DD-8DBE-C208F798CA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3B8DAD-F18D-49EA-9E97-943DC776373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5A9BF8-4F69-48D9-959E-A3127B1B5FA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F2EC0D-2BDB-479E-9599-4B84BD39B9B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E6D437-C4B2-46FB-8F50-47F52C718D8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FA0A98-02E1-44DC-A697-B03487B6476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E0AD4-D151-442C-B08D-89CDFAE12DA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CE00B0-2680-4C7F-8411-F8EF0E20B79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08D02F-CF15-45E4-A956-FB100F59948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EABE2C-1220-4CB4-A246-E78C58818AC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FD38B5-0992-4133-8B53-4A7BDCE001A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41F531-8FCA-4BEE-A00E-2FDEAB8D03C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6C4D02-B3FB-4E79-B7D8-C2FAC925968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8E4F41-5820-4367-82EF-3B51443FA7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53A68-F590-40E4-B93C-23FBA18EE7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192FD-9B91-4C49-A723-D01ABE6440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4FD5E-F94E-45F3-AEC5-7E5BD0272D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2F8A1-AB7F-468F-9AB1-CD9B417999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A3B1E-E127-4D7A-B225-3630CF0104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C6D5C-4BD0-47CD-807E-D7E987BE6D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287760"/>
            <a:ext cx="1141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CE954C-BFE5-42F9-A8CC-DDB079AA54F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760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760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2"/>
          </p:nvPr>
        </p:nvSpPr>
        <p:spPr>
          <a:xfrm>
            <a:off x="228600" y="6288120"/>
            <a:ext cx="11397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fld id="{25FB802F-88D3-4C9A-8AED-E26790DA59D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AutoShape 2"/>
          <p:cNvSpPr/>
          <p:nvPr/>
        </p:nvSpPr>
        <p:spPr>
          <a:xfrm>
            <a:off x="3657600" y="5105520"/>
            <a:ext cx="4800600" cy="1199880"/>
          </a:xfrm>
          <a:prstGeom prst="pi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itstream Charter"/>
              </a:rPr>
              <a:t>P V S Phaneendr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itstream Charter"/>
              </a:rPr>
              <a:t>CircuitSutra Technologies Pvt. Ltd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itstream Charter"/>
              </a:rPr>
              <a:t>Aug 2011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Rectangle 2"/>
          <p:cNvSpPr/>
          <p:nvPr/>
        </p:nvSpPr>
        <p:spPr>
          <a:xfrm>
            <a:off x="507960" y="3359160"/>
            <a:ext cx="833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Indirectly Associating Parameters</a:t>
            </a:r>
            <a:br>
              <a:rPr sz="3000"/>
            </a:b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SystemC CCI WG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AutoShape 2"/>
          <p:cNvSpPr/>
          <p:nvPr/>
        </p:nvSpPr>
        <p:spPr>
          <a:xfrm>
            <a:off x="554040" y="1249200"/>
            <a:ext cx="8072280" cy="3886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Objective of the present example is to demonstrate the following 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696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arameter Searches (R3), and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696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arameter Value Synchronization to address Different Names, Same Intended Meaning (UC9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696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alue translation (e.g. units) is demonstrated  between the associated parameters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Title 1"/>
          <p:cNvSpPr/>
          <p:nvPr/>
        </p:nvSpPr>
        <p:spPr>
          <a:xfrm>
            <a:off x="30492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Indirectly Associating Parameter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Group 1"/>
          <p:cNvGrpSpPr/>
          <p:nvPr/>
        </p:nvGrpSpPr>
        <p:grpSpPr>
          <a:xfrm>
            <a:off x="76320" y="2590920"/>
            <a:ext cx="8961480" cy="3549600"/>
            <a:chOff x="76320" y="2590920"/>
            <a:chExt cx="8961480" cy="3549600"/>
          </a:xfrm>
        </p:grpSpPr>
        <p:sp>
          <p:nvSpPr>
            <p:cNvPr id="184" name="AutoShape 3"/>
            <p:cNvSpPr/>
            <p:nvPr/>
          </p:nvSpPr>
          <p:spPr>
            <a:xfrm>
              <a:off x="76320" y="2590920"/>
              <a:ext cx="8961480" cy="294120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5" name="AutoShape 8"/>
            <p:cNvSpPr/>
            <p:nvPr/>
          </p:nvSpPr>
          <p:spPr>
            <a:xfrm>
              <a:off x="3961080" y="5646240"/>
              <a:ext cx="1601640" cy="4942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Top_Module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86" name="AutoShape 23"/>
          <p:cNvSpPr/>
          <p:nvPr/>
        </p:nvSpPr>
        <p:spPr>
          <a:xfrm>
            <a:off x="2666880" y="2719440"/>
            <a:ext cx="3657600" cy="40464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Create two </a:t>
            </a: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parameter_owner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module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87" name="Group 40"/>
          <p:cNvGrpSpPr/>
          <p:nvPr/>
        </p:nvGrpSpPr>
        <p:grpSpPr>
          <a:xfrm>
            <a:off x="1981080" y="1143000"/>
            <a:ext cx="5410440" cy="1066680"/>
            <a:chOff x="1981080" y="1143000"/>
            <a:chExt cx="5410440" cy="1066680"/>
          </a:xfrm>
        </p:grpSpPr>
        <p:sp>
          <p:nvSpPr>
            <p:cNvPr id="188" name="AutoShape 23"/>
            <p:cNvSpPr/>
            <p:nvPr/>
          </p:nvSpPr>
          <p:spPr>
            <a:xfrm>
              <a:off x="1981080" y="1143000"/>
              <a:ext cx="5410440" cy="68580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Get the handles of the of the owner modules’ parameters with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the configuration broker using 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Bitstream Charter"/>
                </a:rPr>
                <a:t>Name-based Look Up Access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9" name="AutoShape 5"/>
            <p:cNvSpPr/>
            <p:nvPr/>
          </p:nvSpPr>
          <p:spPr>
            <a:xfrm>
              <a:off x="3200400" y="1838160"/>
              <a:ext cx="2362320" cy="3715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90" name="Group 32"/>
          <p:cNvGrpSpPr/>
          <p:nvPr/>
        </p:nvGrpSpPr>
        <p:grpSpPr>
          <a:xfrm>
            <a:off x="304920" y="4429080"/>
            <a:ext cx="4030560" cy="981000"/>
            <a:chOff x="304920" y="4429080"/>
            <a:chExt cx="4030560" cy="981000"/>
          </a:xfrm>
        </p:grpSpPr>
        <p:grpSp>
          <p:nvGrpSpPr>
            <p:cNvPr id="191" name="Group 29"/>
            <p:cNvGrpSpPr/>
            <p:nvPr/>
          </p:nvGrpSpPr>
          <p:grpSpPr>
            <a:xfrm>
              <a:off x="304920" y="4429080"/>
              <a:ext cx="4030560" cy="533520"/>
              <a:chOff x="304920" y="4429080"/>
              <a:chExt cx="4030560" cy="533520"/>
            </a:xfrm>
          </p:grpSpPr>
          <p:sp>
            <p:nvSpPr>
              <p:cNvPr id="192" name="AutoShape 11"/>
              <p:cNvSpPr/>
              <p:nvPr/>
            </p:nvSpPr>
            <p:spPr>
              <a:xfrm>
                <a:off x="304920" y="4429080"/>
                <a:ext cx="4030560" cy="53352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193" name="Group 28"/>
              <p:cNvGrpSpPr/>
              <p:nvPr/>
            </p:nvGrpSpPr>
            <p:grpSpPr>
              <a:xfrm>
                <a:off x="449280" y="4530240"/>
                <a:ext cx="3741840" cy="298800"/>
                <a:chOff x="449280" y="4530240"/>
                <a:chExt cx="3741840" cy="298800"/>
              </a:xfrm>
            </p:grpSpPr>
            <p:sp>
              <p:nvSpPr>
                <p:cNvPr id="194" name="AutoShape 12"/>
                <p:cNvSpPr/>
                <p:nvPr/>
              </p:nvSpPr>
              <p:spPr>
                <a:xfrm>
                  <a:off x="449280" y="4530240"/>
                  <a:ext cx="1989360" cy="29880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k_freq_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195" name="AutoShape 15"/>
                <p:cNvSpPr/>
                <p:nvPr/>
              </p:nvSpPr>
              <p:spPr>
                <a:xfrm>
                  <a:off x="2362320" y="4530240"/>
                  <a:ext cx="1828800" cy="29880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1 (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196" name="AutoShape 6"/>
            <p:cNvSpPr/>
            <p:nvPr/>
          </p:nvSpPr>
          <p:spPr>
            <a:xfrm>
              <a:off x="1220760" y="5038560"/>
              <a:ext cx="1827000" cy="3715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1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97" name="Group 2"/>
          <p:cNvGrpSpPr/>
          <p:nvPr/>
        </p:nvGrpSpPr>
        <p:grpSpPr>
          <a:xfrm>
            <a:off x="4419720" y="4429080"/>
            <a:ext cx="4411440" cy="981000"/>
            <a:chOff x="4419720" y="4429080"/>
            <a:chExt cx="4411440" cy="981000"/>
          </a:xfrm>
        </p:grpSpPr>
        <p:grpSp>
          <p:nvGrpSpPr>
            <p:cNvPr id="198" name="Group 31"/>
            <p:cNvGrpSpPr/>
            <p:nvPr/>
          </p:nvGrpSpPr>
          <p:grpSpPr>
            <a:xfrm>
              <a:off x="4419720" y="4429080"/>
              <a:ext cx="4411440" cy="533520"/>
              <a:chOff x="4419720" y="4429080"/>
              <a:chExt cx="4411440" cy="533520"/>
            </a:xfrm>
          </p:grpSpPr>
          <p:sp>
            <p:nvSpPr>
              <p:cNvPr id="199" name="AutoShape 11"/>
              <p:cNvSpPr/>
              <p:nvPr/>
            </p:nvSpPr>
            <p:spPr>
              <a:xfrm>
                <a:off x="4419720" y="4429080"/>
                <a:ext cx="4411440" cy="53352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200" name="Group 30"/>
              <p:cNvGrpSpPr/>
              <p:nvPr/>
            </p:nvGrpSpPr>
            <p:grpSpPr>
              <a:xfrm>
                <a:off x="4556160" y="4505040"/>
                <a:ext cx="4275000" cy="341280"/>
                <a:chOff x="4556160" y="4505040"/>
                <a:chExt cx="4275000" cy="341280"/>
              </a:xfrm>
            </p:grpSpPr>
            <p:sp>
              <p:nvSpPr>
                <p:cNvPr id="201" name="AutoShape 12"/>
                <p:cNvSpPr/>
                <p:nvPr/>
              </p:nvSpPr>
              <p:spPr>
                <a:xfrm>
                  <a:off x="4556160" y="4505040"/>
                  <a:ext cx="2454120" cy="3412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ock_speed_K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02" name="AutoShape 15"/>
                <p:cNvSpPr/>
                <p:nvPr/>
              </p:nvSpPr>
              <p:spPr>
                <a:xfrm>
                  <a:off x="6850080" y="4505040"/>
                  <a:ext cx="1981080" cy="3412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2 (K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03" name="AutoShape 6"/>
            <p:cNvSpPr/>
            <p:nvPr/>
          </p:nvSpPr>
          <p:spPr>
            <a:xfrm>
              <a:off x="5716440" y="5038560"/>
              <a:ext cx="1827000" cy="3715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2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04" name="AutoShape 23"/>
          <p:cNvSpPr/>
          <p:nvPr/>
        </p:nvSpPr>
        <p:spPr>
          <a:xfrm>
            <a:off x="1220760" y="3200400"/>
            <a:ext cx="6932520" cy="40464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Instantiate a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param_value_sync_with_cf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class to synchronize the parameter value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AutoShape 23"/>
          <p:cNvSpPr/>
          <p:nvPr/>
        </p:nvSpPr>
        <p:spPr>
          <a:xfrm>
            <a:off x="1220760" y="3710160"/>
            <a:ext cx="6932520" cy="40464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Sends the list of selected cci_param_handles to the </a:t>
            </a: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param_value_sync_with_cf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clas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Rectangle 29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Title 1"/>
          <p:cNvSpPr/>
          <p:nvPr/>
        </p:nvSpPr>
        <p:spPr>
          <a:xfrm>
            <a:off x="141120" y="46080"/>
            <a:ext cx="889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Example Illustr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AutoShape 3"/>
          <p:cNvSpPr/>
          <p:nvPr/>
        </p:nvSpPr>
        <p:spPr>
          <a:xfrm>
            <a:off x="106200" y="2362320"/>
            <a:ext cx="8961480" cy="327636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09" name="Group 48"/>
          <p:cNvGrpSpPr/>
          <p:nvPr/>
        </p:nvGrpSpPr>
        <p:grpSpPr>
          <a:xfrm>
            <a:off x="609480" y="3048120"/>
            <a:ext cx="7925040" cy="1403280"/>
            <a:chOff x="609480" y="3048120"/>
            <a:chExt cx="7925040" cy="1403280"/>
          </a:xfrm>
        </p:grpSpPr>
        <p:sp>
          <p:nvSpPr>
            <p:cNvPr id="210" name="AutoShape 23"/>
            <p:cNvSpPr/>
            <p:nvPr/>
          </p:nvSpPr>
          <p:spPr>
            <a:xfrm>
              <a:off x="609480" y="3048120"/>
              <a:ext cx="7925040" cy="99036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1" name="AutoShape 6"/>
            <p:cNvSpPr/>
            <p:nvPr/>
          </p:nvSpPr>
          <p:spPr>
            <a:xfrm>
              <a:off x="3162240" y="4146480"/>
              <a:ext cx="2743200" cy="3049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_value_sync_with_cf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12" name="AutoShape 8"/>
          <p:cNvSpPr/>
          <p:nvPr/>
        </p:nvSpPr>
        <p:spPr>
          <a:xfrm>
            <a:off x="3657600" y="5867280"/>
            <a:ext cx="1601640" cy="22860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65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Top_Modu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13" name="Group 40"/>
          <p:cNvGrpSpPr/>
          <p:nvPr/>
        </p:nvGrpSpPr>
        <p:grpSpPr>
          <a:xfrm>
            <a:off x="2762640" y="1331640"/>
            <a:ext cx="4152240" cy="878040"/>
            <a:chOff x="2762640" y="1331640"/>
            <a:chExt cx="4152240" cy="878040"/>
          </a:xfrm>
        </p:grpSpPr>
        <p:sp>
          <p:nvSpPr>
            <p:cNvPr id="214" name="AutoShape 23"/>
            <p:cNvSpPr/>
            <p:nvPr/>
          </p:nvSpPr>
          <p:spPr>
            <a:xfrm>
              <a:off x="2762640" y="1331640"/>
              <a:ext cx="4152240" cy="30708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 already stored parameter handles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5" name="AutoShape 5"/>
            <p:cNvSpPr/>
            <p:nvPr/>
          </p:nvSpPr>
          <p:spPr>
            <a:xfrm>
              <a:off x="3352680" y="1837800"/>
              <a:ext cx="2362320" cy="3718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16" name="Group 32"/>
          <p:cNvGrpSpPr/>
          <p:nvPr/>
        </p:nvGrpSpPr>
        <p:grpSpPr>
          <a:xfrm>
            <a:off x="304920" y="4581360"/>
            <a:ext cx="4030560" cy="981360"/>
            <a:chOff x="304920" y="4581360"/>
            <a:chExt cx="4030560" cy="981360"/>
          </a:xfrm>
        </p:grpSpPr>
        <p:grpSp>
          <p:nvGrpSpPr>
            <p:cNvPr id="217" name="Group 29"/>
            <p:cNvGrpSpPr/>
            <p:nvPr/>
          </p:nvGrpSpPr>
          <p:grpSpPr>
            <a:xfrm>
              <a:off x="304920" y="4581360"/>
              <a:ext cx="4030560" cy="533520"/>
              <a:chOff x="304920" y="4581360"/>
              <a:chExt cx="4030560" cy="533520"/>
            </a:xfrm>
          </p:grpSpPr>
          <p:sp>
            <p:nvSpPr>
              <p:cNvPr id="218" name="AutoShape 11"/>
              <p:cNvSpPr/>
              <p:nvPr/>
            </p:nvSpPr>
            <p:spPr>
              <a:xfrm>
                <a:off x="304920" y="4581360"/>
                <a:ext cx="4030560" cy="53352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219" name="Group 28"/>
              <p:cNvGrpSpPr/>
              <p:nvPr/>
            </p:nvGrpSpPr>
            <p:grpSpPr>
              <a:xfrm>
                <a:off x="449280" y="4682520"/>
                <a:ext cx="3741840" cy="298800"/>
                <a:chOff x="449280" y="4682520"/>
                <a:chExt cx="3741840" cy="298800"/>
              </a:xfrm>
            </p:grpSpPr>
            <p:sp>
              <p:nvSpPr>
                <p:cNvPr id="220" name="AutoShape 12"/>
                <p:cNvSpPr/>
                <p:nvPr/>
              </p:nvSpPr>
              <p:spPr>
                <a:xfrm>
                  <a:off x="449280" y="4682520"/>
                  <a:ext cx="1989360" cy="29880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k_freq_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21" name="AutoShape 15"/>
                <p:cNvSpPr/>
                <p:nvPr/>
              </p:nvSpPr>
              <p:spPr>
                <a:xfrm>
                  <a:off x="2362320" y="4682520"/>
                  <a:ext cx="1828800" cy="29880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1 (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22" name="AutoShape 6"/>
            <p:cNvSpPr/>
            <p:nvPr/>
          </p:nvSpPr>
          <p:spPr>
            <a:xfrm>
              <a:off x="1220760" y="5191200"/>
              <a:ext cx="1827000" cy="3715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1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23" name="Group 2"/>
          <p:cNvGrpSpPr/>
          <p:nvPr/>
        </p:nvGrpSpPr>
        <p:grpSpPr>
          <a:xfrm>
            <a:off x="4419720" y="4581360"/>
            <a:ext cx="4411440" cy="981360"/>
            <a:chOff x="4419720" y="4581360"/>
            <a:chExt cx="4411440" cy="981360"/>
          </a:xfrm>
        </p:grpSpPr>
        <p:grpSp>
          <p:nvGrpSpPr>
            <p:cNvPr id="224" name="Group 31"/>
            <p:cNvGrpSpPr/>
            <p:nvPr/>
          </p:nvGrpSpPr>
          <p:grpSpPr>
            <a:xfrm>
              <a:off x="4419720" y="4581360"/>
              <a:ext cx="4411440" cy="533520"/>
              <a:chOff x="4419720" y="4581360"/>
              <a:chExt cx="4411440" cy="533520"/>
            </a:xfrm>
          </p:grpSpPr>
          <p:sp>
            <p:nvSpPr>
              <p:cNvPr id="225" name="AutoShape 11"/>
              <p:cNvSpPr/>
              <p:nvPr/>
            </p:nvSpPr>
            <p:spPr>
              <a:xfrm>
                <a:off x="4419720" y="4581360"/>
                <a:ext cx="4411440" cy="53352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226" name="Group 30"/>
              <p:cNvGrpSpPr/>
              <p:nvPr/>
            </p:nvGrpSpPr>
            <p:grpSpPr>
              <a:xfrm>
                <a:off x="4556160" y="4657320"/>
                <a:ext cx="4122720" cy="341280"/>
                <a:chOff x="4556160" y="4657320"/>
                <a:chExt cx="4122720" cy="341280"/>
              </a:xfrm>
            </p:grpSpPr>
            <p:sp>
              <p:nvSpPr>
                <p:cNvPr id="227" name="AutoShape 12"/>
                <p:cNvSpPr/>
                <p:nvPr/>
              </p:nvSpPr>
              <p:spPr>
                <a:xfrm>
                  <a:off x="4556160" y="4657320"/>
                  <a:ext cx="2378160" cy="3412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ock_speed_K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28" name="AutoShape 15"/>
                <p:cNvSpPr/>
                <p:nvPr/>
              </p:nvSpPr>
              <p:spPr>
                <a:xfrm>
                  <a:off x="6850080" y="4657320"/>
                  <a:ext cx="1828800" cy="3412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2 (K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29" name="AutoShape 6"/>
            <p:cNvSpPr/>
            <p:nvPr/>
          </p:nvSpPr>
          <p:spPr>
            <a:xfrm>
              <a:off x="5716440" y="5191200"/>
              <a:ext cx="1827000" cy="3715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2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30" name="AutoShape 23"/>
          <p:cNvSpPr/>
          <p:nvPr/>
        </p:nvSpPr>
        <p:spPr>
          <a:xfrm>
            <a:off x="2379240" y="2437560"/>
            <a:ext cx="4919040" cy="45900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lect a list of parameters using the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get_param_handle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API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(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Name-based Look Up Access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and pass it to the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param_value_sync_cf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1" name="Oval 25"/>
          <p:cNvSpPr/>
          <p:nvPr/>
        </p:nvSpPr>
        <p:spPr>
          <a:xfrm>
            <a:off x="380880" y="4648320"/>
            <a:ext cx="2057400" cy="3808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Oval 26"/>
          <p:cNvSpPr/>
          <p:nvPr/>
        </p:nvSpPr>
        <p:spPr>
          <a:xfrm>
            <a:off x="4495680" y="4648320"/>
            <a:ext cx="2438640" cy="3808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AutoShape 23"/>
          <p:cNvSpPr/>
          <p:nvPr/>
        </p:nvSpPr>
        <p:spPr>
          <a:xfrm>
            <a:off x="2895480" y="3200400"/>
            <a:ext cx="5410440" cy="68580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With one cci-parameter as the reference, write it’s default value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to the other cci-parameter using set_cci_valu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4" name="AutoShape 23"/>
          <p:cNvSpPr/>
          <p:nvPr/>
        </p:nvSpPr>
        <p:spPr>
          <a:xfrm>
            <a:off x="762120" y="3200400"/>
            <a:ext cx="1752480" cy="68580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A way to sync th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startup values of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the parameter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5" name="Rectangle 47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Title 1"/>
          <p:cNvSpPr/>
          <p:nvPr/>
        </p:nvSpPr>
        <p:spPr>
          <a:xfrm>
            <a:off x="141120" y="46080"/>
            <a:ext cx="889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Example Illustration 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AutoShape 3"/>
          <p:cNvSpPr/>
          <p:nvPr/>
        </p:nvSpPr>
        <p:spPr>
          <a:xfrm>
            <a:off x="76320" y="2057400"/>
            <a:ext cx="8961480" cy="369900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AutoShape 23"/>
          <p:cNvSpPr/>
          <p:nvPr/>
        </p:nvSpPr>
        <p:spPr>
          <a:xfrm>
            <a:off x="533520" y="2133720"/>
            <a:ext cx="8153280" cy="182880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9" name="AutoShape 8"/>
          <p:cNvSpPr/>
          <p:nvPr/>
        </p:nvSpPr>
        <p:spPr>
          <a:xfrm>
            <a:off x="3960720" y="5872320"/>
            <a:ext cx="1602000" cy="22356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62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Top_Modu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04920" y="4572000"/>
            <a:ext cx="4030560" cy="996840"/>
            <a:chOff x="304920" y="4572000"/>
            <a:chExt cx="4030560" cy="996840"/>
          </a:xfrm>
        </p:grpSpPr>
        <p:grpSp>
          <p:nvGrpSpPr>
            <p:cNvPr id="241" name="Group 29"/>
            <p:cNvGrpSpPr/>
            <p:nvPr/>
          </p:nvGrpSpPr>
          <p:grpSpPr>
            <a:xfrm>
              <a:off x="304920" y="4572000"/>
              <a:ext cx="4030560" cy="542160"/>
              <a:chOff x="304920" y="4572000"/>
              <a:chExt cx="4030560" cy="542160"/>
            </a:xfrm>
          </p:grpSpPr>
          <p:sp>
            <p:nvSpPr>
              <p:cNvPr id="242" name="AutoShape 11"/>
              <p:cNvSpPr/>
              <p:nvPr/>
            </p:nvSpPr>
            <p:spPr>
              <a:xfrm>
                <a:off x="304920" y="4572000"/>
                <a:ext cx="4030560" cy="54216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243" name="Group 28"/>
              <p:cNvGrpSpPr/>
              <p:nvPr/>
            </p:nvGrpSpPr>
            <p:grpSpPr>
              <a:xfrm>
                <a:off x="449280" y="4674960"/>
                <a:ext cx="3741840" cy="303480"/>
                <a:chOff x="449280" y="4674960"/>
                <a:chExt cx="3741840" cy="303480"/>
              </a:xfrm>
            </p:grpSpPr>
            <p:sp>
              <p:nvSpPr>
                <p:cNvPr id="244" name="AutoShape 12"/>
                <p:cNvSpPr/>
                <p:nvPr/>
              </p:nvSpPr>
              <p:spPr>
                <a:xfrm>
                  <a:off x="449280" y="4674960"/>
                  <a:ext cx="1989360" cy="3034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k_freq_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45" name="AutoShape 15"/>
                <p:cNvSpPr/>
                <p:nvPr/>
              </p:nvSpPr>
              <p:spPr>
                <a:xfrm>
                  <a:off x="2362320" y="4674960"/>
                  <a:ext cx="1828800" cy="3034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1 (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46" name="AutoShape 6"/>
            <p:cNvSpPr/>
            <p:nvPr/>
          </p:nvSpPr>
          <p:spPr>
            <a:xfrm>
              <a:off x="1220760" y="5191560"/>
              <a:ext cx="1827000" cy="3772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7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1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47" name="Group 2"/>
          <p:cNvGrpSpPr/>
          <p:nvPr/>
        </p:nvGrpSpPr>
        <p:grpSpPr>
          <a:xfrm>
            <a:off x="4419720" y="4572000"/>
            <a:ext cx="4411440" cy="996840"/>
            <a:chOff x="4419720" y="4572000"/>
            <a:chExt cx="4411440" cy="996840"/>
          </a:xfrm>
        </p:grpSpPr>
        <p:grpSp>
          <p:nvGrpSpPr>
            <p:cNvPr id="248" name="Group 31"/>
            <p:cNvGrpSpPr/>
            <p:nvPr/>
          </p:nvGrpSpPr>
          <p:grpSpPr>
            <a:xfrm>
              <a:off x="4419720" y="4572000"/>
              <a:ext cx="4411440" cy="542160"/>
              <a:chOff x="4419720" y="4572000"/>
              <a:chExt cx="4411440" cy="542160"/>
            </a:xfrm>
          </p:grpSpPr>
          <p:sp>
            <p:nvSpPr>
              <p:cNvPr id="249" name="AutoShape 11"/>
              <p:cNvSpPr/>
              <p:nvPr/>
            </p:nvSpPr>
            <p:spPr>
              <a:xfrm>
                <a:off x="4419720" y="4572000"/>
                <a:ext cx="4411440" cy="54216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250" name="Group 30"/>
              <p:cNvGrpSpPr/>
              <p:nvPr/>
            </p:nvGrpSpPr>
            <p:grpSpPr>
              <a:xfrm>
                <a:off x="4556160" y="4649400"/>
                <a:ext cx="4275000" cy="347040"/>
                <a:chOff x="4556160" y="4649400"/>
                <a:chExt cx="4275000" cy="347040"/>
              </a:xfrm>
            </p:grpSpPr>
            <p:sp>
              <p:nvSpPr>
                <p:cNvPr id="251" name="AutoShape 12"/>
                <p:cNvSpPr/>
                <p:nvPr/>
              </p:nvSpPr>
              <p:spPr>
                <a:xfrm>
                  <a:off x="4556160" y="4649400"/>
                  <a:ext cx="2378160" cy="34704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ock_speed_K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52" name="AutoShape 15"/>
                <p:cNvSpPr/>
                <p:nvPr/>
              </p:nvSpPr>
              <p:spPr>
                <a:xfrm>
                  <a:off x="6850080" y="4649400"/>
                  <a:ext cx="1981080" cy="34704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2 (K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53" name="AutoShape 6"/>
            <p:cNvSpPr/>
            <p:nvPr/>
          </p:nvSpPr>
          <p:spPr>
            <a:xfrm>
              <a:off x="5716440" y="5191560"/>
              <a:ext cx="1827000" cy="3772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7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2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54" name="Oval 25"/>
          <p:cNvSpPr/>
          <p:nvPr/>
        </p:nvSpPr>
        <p:spPr>
          <a:xfrm>
            <a:off x="380880" y="4572000"/>
            <a:ext cx="205740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5" name="Oval 26"/>
          <p:cNvSpPr/>
          <p:nvPr/>
        </p:nvSpPr>
        <p:spPr>
          <a:xfrm>
            <a:off x="4495680" y="4572000"/>
            <a:ext cx="235440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6" name="AutoShape 23"/>
          <p:cNvSpPr/>
          <p:nvPr/>
        </p:nvSpPr>
        <p:spPr>
          <a:xfrm>
            <a:off x="667080" y="3351600"/>
            <a:ext cx="7962120" cy="30708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Register ‘post_write’ callbacks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on the selected parameters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k_freq_Hz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and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ock_speed_KHz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7" name="Rectangle 7"/>
          <p:cNvSpPr/>
          <p:nvPr/>
        </p:nvSpPr>
        <p:spPr>
          <a:xfrm>
            <a:off x="677880" y="2308320"/>
            <a:ext cx="785664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chronize the values of parameter of the two owner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efore BEOE phase begins)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chValuesWithCF(cci::cci_param_handle _param_handle_1, cci::cci_param_handle _param_handle_2,  double conversion_factor)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58" name="Curved Connector 10"/>
          <p:cNvCxnSpPr>
            <a:stCxn id="254" idx="0"/>
            <a:endCxn id="255" idx="0"/>
          </p:cNvCxnSpPr>
          <p:nvPr/>
        </p:nvCxnSpPr>
        <p:spPr>
          <a:xfrm flipH="1" rot="16200000">
            <a:off x="3540960" y="2427840"/>
            <a:ext cx="2160" cy="4264560"/>
          </a:xfrm>
          <a:prstGeom prst="curvedConnector5">
            <a:avLst>
              <a:gd name="adj1" fmla="val -13600000"/>
              <a:gd name="adj2" fmla="val 49995"/>
              <a:gd name="adj3" fmla="val -13600000"/>
            </a:avLst>
          </a:prstGeom>
          <a:ln w="19080">
            <a:solidFill>
              <a:srgbClr val="00b050"/>
            </a:solidFill>
            <a:prstDash val="sysDash"/>
            <a:miter/>
            <a:headEnd len="lg" type="triangle" w="lg"/>
            <a:tailEnd len="lg" type="triangle" w="lg"/>
          </a:ln>
        </p:spPr>
      </p:cxnSp>
      <p:sp>
        <p:nvSpPr>
          <p:cNvPr id="259" name="AutoShape 6"/>
          <p:cNvSpPr/>
          <p:nvPr/>
        </p:nvSpPr>
        <p:spPr>
          <a:xfrm>
            <a:off x="3298680" y="4143240"/>
            <a:ext cx="2513160" cy="22860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65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param_value_sync_with_cf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60" name="Curved Connector 10"/>
          <p:cNvCxnSpPr>
            <a:stCxn id="261" idx="4"/>
            <a:endCxn id="245" idx="2"/>
          </p:cNvCxnSpPr>
          <p:nvPr/>
        </p:nvCxnSpPr>
        <p:spPr>
          <a:xfrm flipV="1" rot="16200000">
            <a:off x="5511600" y="2742480"/>
            <a:ext cx="64080" cy="4534560"/>
          </a:xfrm>
          <a:prstGeom prst="curvedConnector5">
            <a:avLst>
              <a:gd name="adj1" fmla="val -339548"/>
              <a:gd name="adj2" fmla="val 49996"/>
              <a:gd name="adj3" fmla="val -339548"/>
            </a:avLst>
          </a:prstGeom>
          <a:ln w="19080">
            <a:solidFill>
              <a:srgbClr val="00b050"/>
            </a:solidFill>
            <a:prstDash val="sysDash"/>
            <a:miter/>
            <a:headEnd len="lg" type="triangle" w="lg"/>
          </a:ln>
        </p:spPr>
      </p:cxnSp>
      <p:grpSp>
        <p:nvGrpSpPr>
          <p:cNvPr id="262" name="Group 54"/>
          <p:cNvGrpSpPr/>
          <p:nvPr/>
        </p:nvGrpSpPr>
        <p:grpSpPr>
          <a:xfrm>
            <a:off x="6934320" y="4572000"/>
            <a:ext cx="1828800" cy="457200"/>
            <a:chOff x="6934320" y="4572000"/>
            <a:chExt cx="1828800" cy="457200"/>
          </a:xfrm>
        </p:grpSpPr>
        <p:sp>
          <p:nvSpPr>
            <p:cNvPr id="263" name="AutoShape 15"/>
            <p:cNvSpPr/>
            <p:nvPr/>
          </p:nvSpPr>
          <p:spPr>
            <a:xfrm>
              <a:off x="6934320" y="4648320"/>
              <a:ext cx="1828800" cy="30312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0.001 (K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61" name="Oval 45"/>
            <p:cNvSpPr/>
            <p:nvPr/>
          </p:nvSpPr>
          <p:spPr>
            <a:xfrm>
              <a:off x="6934320" y="4572000"/>
              <a:ext cx="1752480" cy="457200"/>
            </a:xfrm>
            <a:prstGeom prst="ellipse">
              <a:avLst/>
            </a:prstGeom>
            <a:noFill/>
            <a:ln w="255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64" name="Rectangle 53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5" name="Title 1"/>
          <p:cNvSpPr/>
          <p:nvPr/>
        </p:nvSpPr>
        <p:spPr>
          <a:xfrm>
            <a:off x="141120" y="46080"/>
            <a:ext cx="889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Example Illustration 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66" name="Group 40"/>
          <p:cNvGrpSpPr/>
          <p:nvPr/>
        </p:nvGrpSpPr>
        <p:grpSpPr>
          <a:xfrm>
            <a:off x="2147760" y="1121760"/>
            <a:ext cx="4772520" cy="876960"/>
            <a:chOff x="2147760" y="1121760"/>
            <a:chExt cx="4772520" cy="876960"/>
          </a:xfrm>
        </p:grpSpPr>
        <p:sp>
          <p:nvSpPr>
            <p:cNvPr id="267" name="AutoShape 5"/>
            <p:cNvSpPr/>
            <p:nvPr/>
          </p:nvSpPr>
          <p:spPr>
            <a:xfrm>
              <a:off x="3374640" y="1622160"/>
              <a:ext cx="2362680" cy="3765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68" name="AutoShape 23"/>
            <p:cNvSpPr/>
            <p:nvPr/>
          </p:nvSpPr>
          <p:spPr>
            <a:xfrm>
              <a:off x="2147760" y="1121760"/>
              <a:ext cx="4772520" cy="30708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 already stored handles of the parameters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9" name="Group 58"/>
          <p:cNvGrpSpPr/>
          <p:nvPr/>
        </p:nvGrpSpPr>
        <p:grpSpPr>
          <a:xfrm>
            <a:off x="76320" y="3274920"/>
            <a:ext cx="8961480" cy="2551320"/>
            <a:chOff x="76320" y="3274920"/>
            <a:chExt cx="8961480" cy="2551320"/>
          </a:xfrm>
        </p:grpSpPr>
        <p:grpSp>
          <p:nvGrpSpPr>
            <p:cNvPr id="270" name="Group 49"/>
            <p:cNvGrpSpPr/>
            <p:nvPr/>
          </p:nvGrpSpPr>
          <p:grpSpPr>
            <a:xfrm>
              <a:off x="76320" y="3274920"/>
              <a:ext cx="8961480" cy="2551320"/>
              <a:chOff x="76320" y="3274920"/>
              <a:chExt cx="8961480" cy="2551320"/>
            </a:xfrm>
          </p:grpSpPr>
          <p:grpSp>
            <p:nvGrpSpPr>
              <p:cNvPr id="271" name="Group 47"/>
              <p:cNvGrpSpPr/>
              <p:nvPr/>
            </p:nvGrpSpPr>
            <p:grpSpPr>
              <a:xfrm>
                <a:off x="76320" y="3274920"/>
                <a:ext cx="8961480" cy="2551320"/>
                <a:chOff x="76320" y="3274920"/>
                <a:chExt cx="8961480" cy="2551320"/>
              </a:xfrm>
            </p:grpSpPr>
            <p:grpSp>
              <p:nvGrpSpPr>
                <p:cNvPr id="272" name="Group 46"/>
                <p:cNvGrpSpPr/>
                <p:nvPr/>
              </p:nvGrpSpPr>
              <p:grpSpPr>
                <a:xfrm>
                  <a:off x="76320" y="3274920"/>
                  <a:ext cx="8961480" cy="2551320"/>
                  <a:chOff x="76320" y="3274920"/>
                  <a:chExt cx="8961480" cy="2551320"/>
                </a:xfrm>
              </p:grpSpPr>
              <p:grpSp>
                <p:nvGrpSpPr>
                  <p:cNvPr id="273" name="Group 1"/>
                  <p:cNvGrpSpPr/>
                  <p:nvPr/>
                </p:nvGrpSpPr>
                <p:grpSpPr>
                  <a:xfrm>
                    <a:off x="76320" y="3274920"/>
                    <a:ext cx="8961480" cy="2551320"/>
                    <a:chOff x="76320" y="3274920"/>
                    <a:chExt cx="8961480" cy="2551320"/>
                  </a:xfrm>
                </p:grpSpPr>
                <p:sp>
                  <p:nvSpPr>
                    <p:cNvPr id="274" name="AutoShape 3"/>
                    <p:cNvSpPr/>
                    <p:nvPr/>
                  </p:nvSpPr>
                  <p:spPr>
                    <a:xfrm>
                      <a:off x="76320" y="3274920"/>
                      <a:ext cx="8961480" cy="2041200"/>
                    </a:xfrm>
                    <a:prstGeom prst="roundRect">
                      <a:avLst>
                        <a:gd name="adj" fmla="val 134"/>
                      </a:avLst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75" name="AutoShape 8"/>
                    <p:cNvSpPr/>
                    <p:nvPr/>
                  </p:nvSpPr>
                  <p:spPr>
                    <a:xfrm>
                      <a:off x="3789360" y="5316120"/>
                      <a:ext cx="1601640" cy="510120"/>
                    </a:xfrm>
                    <a:prstGeom prst="roundRect">
                      <a:avLst>
                        <a:gd name="adj" fmla="val 426"/>
                      </a:avLst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000" bIns="45000" anchor="ctr" anchorCtr="1">
                      <a:norm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Top_Modu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276" name="Group 32"/>
                  <p:cNvGrpSpPr/>
                  <p:nvPr/>
                </p:nvGrpSpPr>
                <p:grpSpPr>
                  <a:xfrm>
                    <a:off x="304920" y="4070520"/>
                    <a:ext cx="4030560" cy="963360"/>
                    <a:chOff x="304920" y="4070520"/>
                    <a:chExt cx="4030560" cy="963360"/>
                  </a:xfrm>
                </p:grpSpPr>
                <p:grpSp>
                  <p:nvGrpSpPr>
                    <p:cNvPr id="277" name="Group 29"/>
                    <p:cNvGrpSpPr/>
                    <p:nvPr/>
                  </p:nvGrpSpPr>
                  <p:grpSpPr>
                    <a:xfrm>
                      <a:off x="304920" y="4070520"/>
                      <a:ext cx="4030560" cy="523800"/>
                      <a:chOff x="304920" y="4070520"/>
                      <a:chExt cx="4030560" cy="523800"/>
                    </a:xfrm>
                  </p:grpSpPr>
                  <p:sp>
                    <p:nvSpPr>
                      <p:cNvPr id="278" name="AutoShape 11"/>
                      <p:cNvSpPr/>
                      <p:nvPr/>
                    </p:nvSpPr>
                    <p:spPr>
                      <a:xfrm>
                        <a:off x="304920" y="4070520"/>
                        <a:ext cx="4030560" cy="523800"/>
                      </a:xfrm>
                      <a:prstGeom prst="roundRect">
                        <a:avLst>
                          <a:gd name="adj" fmla="val 120"/>
                        </a:avLst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endParaRPr>
                      </a:p>
                    </p:txBody>
                  </p:sp>
                  <p:grpSp>
                    <p:nvGrpSpPr>
                      <p:cNvPr id="279" name="Group 28"/>
                      <p:cNvGrpSpPr/>
                      <p:nvPr/>
                    </p:nvGrpSpPr>
                    <p:grpSpPr>
                      <a:xfrm>
                        <a:off x="449280" y="4169880"/>
                        <a:ext cx="3741840" cy="293400"/>
                        <a:chOff x="449280" y="4169880"/>
                        <a:chExt cx="3741840" cy="293400"/>
                      </a:xfrm>
                    </p:grpSpPr>
                    <p:sp>
                      <p:nvSpPr>
                        <p:cNvPr id="280" name="AutoShape 12"/>
                        <p:cNvSpPr/>
                        <p:nvPr/>
                      </p:nvSpPr>
                      <p:spPr>
                        <a:xfrm>
                          <a:off x="449280" y="4169880"/>
                          <a:ext cx="1989360" cy="293400"/>
                        </a:xfrm>
                        <a:prstGeom prst="roundRect">
                          <a:avLst>
                            <a:gd name="adj" fmla="val 463"/>
                          </a:avLst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ctr" anchorCtr="1">
                          <a:norm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  <a:tab algn="l" pos="9601200"/>
                              <a:tab algn="l" pos="10058400"/>
                              <a:tab algn="l" pos="10515600"/>
                            </a:tabLst>
                          </a:pPr>
                          <a:r>
                            <a:rPr b="1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  <a:ea typeface="Arial"/>
                            </a:rPr>
                            <a:t>Param_Name :</a:t>
                          </a:r>
                          <a:r>
                            <a:rPr b="0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  <a:ea typeface="Arial"/>
                            </a:rPr>
                            <a:t> clk_freq_Hz</a:t>
                          </a:r>
                          <a:endParaRPr b="0" lang="en-US" sz="11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281" name="AutoShape 15"/>
                        <p:cNvSpPr/>
                        <p:nvPr/>
                      </p:nvSpPr>
                      <p:spPr>
                        <a:xfrm>
                          <a:off x="2362320" y="4169880"/>
                          <a:ext cx="1828800" cy="293400"/>
                        </a:xfrm>
                        <a:prstGeom prst="roundRect">
                          <a:avLst>
                            <a:gd name="adj" fmla="val 463"/>
                          </a:avLst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ctr" anchorCtr="1">
                          <a:norm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  <a:tab algn="l" pos="9601200"/>
                              <a:tab algn="l" pos="10058400"/>
                              <a:tab algn="l" pos="10515600"/>
                            </a:tabLst>
                          </a:pPr>
                          <a:r>
                            <a:rPr b="1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Default Value :</a:t>
                          </a:r>
                          <a:r>
                            <a:rPr b="0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 1 (Hz)</a:t>
                          </a:r>
                          <a:endParaRPr b="0" lang="en-US" sz="11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282" name="AutoShape 6"/>
                    <p:cNvSpPr/>
                    <p:nvPr/>
                  </p:nvSpPr>
                  <p:spPr>
                    <a:xfrm>
                      <a:off x="1220760" y="4669200"/>
                      <a:ext cx="1827000" cy="364680"/>
                    </a:xfrm>
                    <a:prstGeom prst="roundRect">
                      <a:avLst>
                        <a:gd name="adj" fmla="val 426"/>
                      </a:avLst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000" bIns="45000" anchor="ctr" anchorCtr="1">
                      <a:normAutofit fontScale="64000"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Instance#1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Parameter_Own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283" name="Group 2"/>
                  <p:cNvGrpSpPr/>
                  <p:nvPr/>
                </p:nvGrpSpPr>
                <p:grpSpPr>
                  <a:xfrm>
                    <a:off x="4419720" y="4070520"/>
                    <a:ext cx="4411440" cy="963360"/>
                    <a:chOff x="4419720" y="4070520"/>
                    <a:chExt cx="4411440" cy="963360"/>
                  </a:xfrm>
                </p:grpSpPr>
                <p:grpSp>
                  <p:nvGrpSpPr>
                    <p:cNvPr id="284" name="Group 31"/>
                    <p:cNvGrpSpPr/>
                    <p:nvPr/>
                  </p:nvGrpSpPr>
                  <p:grpSpPr>
                    <a:xfrm>
                      <a:off x="4419720" y="4070520"/>
                      <a:ext cx="4411440" cy="523800"/>
                      <a:chOff x="4419720" y="4070520"/>
                      <a:chExt cx="4411440" cy="523800"/>
                    </a:xfrm>
                  </p:grpSpPr>
                  <p:sp>
                    <p:nvSpPr>
                      <p:cNvPr id="285" name="AutoShape 11"/>
                      <p:cNvSpPr/>
                      <p:nvPr/>
                    </p:nvSpPr>
                    <p:spPr>
                      <a:xfrm>
                        <a:off x="4419720" y="4070520"/>
                        <a:ext cx="4411440" cy="523800"/>
                      </a:xfrm>
                      <a:prstGeom prst="roundRect">
                        <a:avLst>
                          <a:gd name="adj" fmla="val 120"/>
                        </a:avLst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endParaRPr>
                      </a:p>
                    </p:txBody>
                  </p:sp>
                  <p:grpSp>
                    <p:nvGrpSpPr>
                      <p:cNvPr id="286" name="Group 30"/>
                      <p:cNvGrpSpPr/>
                      <p:nvPr/>
                    </p:nvGrpSpPr>
                    <p:grpSpPr>
                      <a:xfrm>
                        <a:off x="4556160" y="4145040"/>
                        <a:ext cx="4275000" cy="335160"/>
                        <a:chOff x="4556160" y="4145040"/>
                        <a:chExt cx="4275000" cy="335160"/>
                      </a:xfrm>
                    </p:grpSpPr>
                    <p:sp>
                      <p:nvSpPr>
                        <p:cNvPr id="287" name="AutoShape 12"/>
                        <p:cNvSpPr/>
                        <p:nvPr/>
                      </p:nvSpPr>
                      <p:spPr>
                        <a:xfrm>
                          <a:off x="4556160" y="4145040"/>
                          <a:ext cx="2378160" cy="335160"/>
                        </a:xfrm>
                        <a:prstGeom prst="roundRect">
                          <a:avLst>
                            <a:gd name="adj" fmla="val 463"/>
                          </a:avLst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ctr" anchorCtr="1">
                          <a:norm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  <a:tab algn="l" pos="9601200"/>
                              <a:tab algn="l" pos="10058400"/>
                              <a:tab algn="l" pos="10515600"/>
                            </a:tabLst>
                          </a:pPr>
                          <a:r>
                            <a:rPr b="1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  <a:ea typeface="Arial"/>
                            </a:rPr>
                            <a:t>Param_Name :</a:t>
                          </a:r>
                          <a:r>
                            <a:rPr b="0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  <a:ea typeface="Arial"/>
                            </a:rPr>
                            <a:t> clock_speed_KHz</a:t>
                          </a:r>
                          <a:endParaRPr b="0" lang="en-US" sz="11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288" name="AutoShape 15"/>
                        <p:cNvSpPr/>
                        <p:nvPr/>
                      </p:nvSpPr>
                      <p:spPr>
                        <a:xfrm>
                          <a:off x="6850080" y="4145040"/>
                          <a:ext cx="1981080" cy="335160"/>
                        </a:xfrm>
                        <a:prstGeom prst="roundRect">
                          <a:avLst>
                            <a:gd name="adj" fmla="val 463"/>
                          </a:avLst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ctr" anchorCtr="1">
                          <a:norm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  <a:tab algn="l" pos="9601200"/>
                              <a:tab algn="l" pos="10058400"/>
                              <a:tab algn="l" pos="10515600"/>
                            </a:tabLst>
                          </a:pPr>
                          <a:r>
                            <a:rPr b="1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Default Value :</a:t>
                          </a:r>
                          <a:r>
                            <a:rPr b="0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 2 (KHz)</a:t>
                          </a:r>
                          <a:endParaRPr b="0" lang="en-US" sz="11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289" name="AutoShape 6"/>
                    <p:cNvSpPr/>
                    <p:nvPr/>
                  </p:nvSpPr>
                  <p:spPr>
                    <a:xfrm>
                      <a:off x="5716440" y="4669200"/>
                      <a:ext cx="1827000" cy="364680"/>
                    </a:xfrm>
                    <a:prstGeom prst="roundRect">
                      <a:avLst>
                        <a:gd name="adj" fmla="val 426"/>
                      </a:avLst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000" bIns="45000" anchor="ctr" anchorCtr="1">
                      <a:normAutofit fontScale="64000"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Instance#2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Parameter_Own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p:txBody>
                </p:sp>
              </p:grpSp>
            </p:grpSp>
            <p:sp>
              <p:nvSpPr>
                <p:cNvPr id="290" name="Oval 25"/>
                <p:cNvSpPr/>
                <p:nvPr/>
              </p:nvSpPr>
              <p:spPr>
                <a:xfrm>
                  <a:off x="380880" y="4100400"/>
                  <a:ext cx="2057400" cy="441360"/>
                </a:xfrm>
                <a:prstGeom prst="ellipse">
                  <a:avLst/>
                </a:prstGeom>
                <a:noFill/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91" name="Oval 26"/>
                <p:cNvSpPr/>
                <p:nvPr/>
              </p:nvSpPr>
              <p:spPr>
                <a:xfrm>
                  <a:off x="4495680" y="4146480"/>
                  <a:ext cx="2354400" cy="441360"/>
                </a:xfrm>
                <a:prstGeom prst="ellipse">
                  <a:avLst/>
                </a:prstGeom>
                <a:noFill/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92" name="Group 48"/>
              <p:cNvGrpSpPr/>
              <p:nvPr/>
            </p:nvGrpSpPr>
            <p:grpSpPr>
              <a:xfrm>
                <a:off x="1409400" y="3429000"/>
                <a:ext cx="4264200" cy="704880"/>
                <a:chOff x="1409400" y="3429000"/>
                <a:chExt cx="4264200" cy="704880"/>
              </a:xfrm>
            </p:grpSpPr>
            <p:cxnSp>
              <p:nvCxnSpPr>
                <p:cNvPr id="293" name="Curved Connector 10"/>
                <p:cNvCxnSpPr>
                  <a:stCxn id="290" idx="0"/>
                  <a:endCxn id="294" idx="1"/>
                </p:cNvCxnSpPr>
                <p:nvPr/>
              </p:nvCxnSpPr>
              <p:spPr>
                <a:xfrm flipH="1" flipV="1" rot="5400000">
                  <a:off x="1937160" y="3052800"/>
                  <a:ext cx="506880" cy="1562760"/>
                </a:xfrm>
                <a:prstGeom prst="curvedConnector2">
                  <a:avLst/>
                </a:prstGeom>
                <a:ln w="19080">
                  <a:solidFill>
                    <a:srgbClr val="00b050"/>
                  </a:solidFill>
                  <a:prstDash val="sysDash"/>
                  <a:miter/>
                  <a:headEnd len="lg" type="triangle" w="lg"/>
                  <a:tailEnd len="lg" type="triangle" w="lg"/>
                </a:ln>
              </p:spPr>
            </p:cxnSp>
            <p:sp>
              <p:nvSpPr>
                <p:cNvPr id="294" name="AutoShape 15"/>
                <p:cNvSpPr/>
                <p:nvPr/>
              </p:nvSpPr>
              <p:spPr>
                <a:xfrm>
                  <a:off x="2971800" y="3429000"/>
                  <a:ext cx="1828800" cy="30312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79000"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param_value_sync_with_cf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cxnSp>
              <p:nvCxnSpPr>
                <p:cNvPr id="295" name="Curved Connector 10"/>
                <p:cNvCxnSpPr>
                  <a:stCxn id="294" idx="3"/>
                  <a:endCxn id="291" idx="0"/>
                </p:cNvCxnSpPr>
                <p:nvPr/>
              </p:nvCxnSpPr>
              <p:spPr>
                <a:xfrm>
                  <a:off x="4800240" y="3580920"/>
                  <a:ext cx="873720" cy="553320"/>
                </a:xfrm>
                <a:prstGeom prst="curvedConnector2">
                  <a:avLst/>
                </a:prstGeom>
                <a:ln w="19080">
                  <a:solidFill>
                    <a:srgbClr val="00b050"/>
                  </a:solidFill>
                  <a:prstDash val="sysDash"/>
                  <a:miter/>
                  <a:headEnd len="lg" type="triangle" w="lg"/>
                  <a:tailEnd len="lg" type="triangle" w="lg"/>
                </a:ln>
              </p:spPr>
            </p:cxnSp>
          </p:grpSp>
        </p:grpSp>
        <p:sp>
          <p:nvSpPr>
            <p:cNvPr id="296" name="AutoShape 15"/>
            <p:cNvSpPr/>
            <p:nvPr/>
          </p:nvSpPr>
          <p:spPr>
            <a:xfrm>
              <a:off x="7010280" y="4191120"/>
              <a:ext cx="1676520" cy="30312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7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Old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0.001 (K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97" name="Group 3"/>
          <p:cNvGrpSpPr/>
          <p:nvPr/>
        </p:nvGrpSpPr>
        <p:grpSpPr>
          <a:xfrm>
            <a:off x="1143000" y="1219320"/>
            <a:ext cx="7010280" cy="860400"/>
            <a:chOff x="1143000" y="1219320"/>
            <a:chExt cx="7010280" cy="860400"/>
          </a:xfrm>
        </p:grpSpPr>
        <p:sp>
          <p:nvSpPr>
            <p:cNvPr id="298" name="AutoShape 5"/>
            <p:cNvSpPr/>
            <p:nvPr/>
          </p:nvSpPr>
          <p:spPr>
            <a:xfrm>
              <a:off x="3581280" y="1702440"/>
              <a:ext cx="2361960" cy="3772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99" name="AutoShape 23"/>
            <p:cNvSpPr/>
            <p:nvPr/>
          </p:nvSpPr>
          <p:spPr>
            <a:xfrm>
              <a:off x="1143000" y="1219320"/>
              <a:ext cx="7010280" cy="45756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cc00cc"/>
                  </a:solidFill>
                  <a:latin typeface="Bitstream Charter"/>
                </a:rPr>
                <a:t>Within BEOE phase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, change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value of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Bitstream Charter"/>
                </a:rPr>
                <a:t>clk_freq_Hz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via 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 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to 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5000 (Hz)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cxnSp>
        <p:nvCxnSpPr>
          <p:cNvPr id="300" name="Curved Connector 9"/>
          <p:cNvCxnSpPr>
            <a:stCxn id="299" idx="1"/>
            <a:endCxn id="290" idx="0"/>
          </p:cNvCxnSpPr>
          <p:nvPr/>
        </p:nvCxnSpPr>
        <p:spPr>
          <a:xfrm flipH="1" flipV="1" rot="10800000">
            <a:off x="1141560" y="1446840"/>
            <a:ext cx="267120" cy="2640600"/>
          </a:xfrm>
          <a:prstGeom prst="curvedConnector5">
            <a:avLst>
              <a:gd name="adj1" fmla="val -85695"/>
              <a:gd name="adj2" fmla="val 27297"/>
              <a:gd name="adj3" fmla="val -85695"/>
            </a:avLst>
          </a:prstGeom>
          <a:ln w="19080">
            <a:solidFill>
              <a:srgbClr val="7030a0"/>
            </a:solidFill>
            <a:miter/>
            <a:tailEnd len="med" type="arrow" w="med"/>
          </a:ln>
        </p:spPr>
      </p:cxnSp>
      <p:grpSp>
        <p:nvGrpSpPr>
          <p:cNvPr id="301" name="Group 15"/>
          <p:cNvGrpSpPr/>
          <p:nvPr/>
        </p:nvGrpSpPr>
        <p:grpSpPr>
          <a:xfrm>
            <a:off x="2514600" y="4114800"/>
            <a:ext cx="1828800" cy="457200"/>
            <a:chOff x="2514600" y="4114800"/>
            <a:chExt cx="1828800" cy="457200"/>
          </a:xfrm>
        </p:grpSpPr>
        <p:sp>
          <p:nvSpPr>
            <p:cNvPr id="302" name="AutoShape 15"/>
            <p:cNvSpPr/>
            <p:nvPr/>
          </p:nvSpPr>
          <p:spPr>
            <a:xfrm>
              <a:off x="2514600" y="4190760"/>
              <a:ext cx="1828800" cy="30312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5000 (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03" name="Oval 39"/>
            <p:cNvSpPr/>
            <p:nvPr/>
          </p:nvSpPr>
          <p:spPr>
            <a:xfrm>
              <a:off x="2514600" y="4114800"/>
              <a:ext cx="1752840" cy="457200"/>
            </a:xfrm>
            <a:prstGeom prst="ellipse">
              <a:avLst/>
            </a:prstGeom>
            <a:noFill/>
            <a:ln w="255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304" name="Group 42"/>
          <p:cNvGrpSpPr/>
          <p:nvPr/>
        </p:nvGrpSpPr>
        <p:grpSpPr>
          <a:xfrm>
            <a:off x="6934320" y="4114800"/>
            <a:ext cx="1828800" cy="457200"/>
            <a:chOff x="6934320" y="4114800"/>
            <a:chExt cx="1828800" cy="457200"/>
          </a:xfrm>
        </p:grpSpPr>
        <p:sp>
          <p:nvSpPr>
            <p:cNvPr id="305" name="AutoShape 15"/>
            <p:cNvSpPr/>
            <p:nvPr/>
          </p:nvSpPr>
          <p:spPr>
            <a:xfrm>
              <a:off x="6934320" y="4190760"/>
              <a:ext cx="1828800" cy="30312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5 (K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06" name="Oval 44"/>
            <p:cNvSpPr/>
            <p:nvPr/>
          </p:nvSpPr>
          <p:spPr>
            <a:xfrm>
              <a:off x="6934320" y="4114800"/>
              <a:ext cx="1752840" cy="457200"/>
            </a:xfrm>
            <a:prstGeom prst="ellipse">
              <a:avLst/>
            </a:prstGeom>
            <a:noFill/>
            <a:ln w="255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07" name="AutoShape 5"/>
          <p:cNvSpPr/>
          <p:nvPr/>
        </p:nvSpPr>
        <p:spPr>
          <a:xfrm>
            <a:off x="1752480" y="2441520"/>
            <a:ext cx="6323040" cy="45396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5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Registered Callback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for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k_freq_Hz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parameter is called and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ock_speed_KHz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value is synchronized with the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k_freq_Hz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valu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308" name="AutoShape 45"/>
          <p:cNvCxnSpPr>
            <a:stCxn id="294" idx="0"/>
            <a:endCxn id="307" idx="2"/>
          </p:cNvCxnSpPr>
          <p:nvPr/>
        </p:nvCxnSpPr>
        <p:spPr>
          <a:xfrm flipV="1">
            <a:off x="3886200" y="2895120"/>
            <a:ext cx="102960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9" name="Rectangle 60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0" name="Title 1"/>
          <p:cNvSpPr/>
          <p:nvPr/>
        </p:nvSpPr>
        <p:spPr>
          <a:xfrm>
            <a:off x="141120" y="46080"/>
            <a:ext cx="889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Example Illustration 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1" name="Group 133"/>
          <p:cNvGrpSpPr/>
          <p:nvPr/>
        </p:nvGrpSpPr>
        <p:grpSpPr>
          <a:xfrm>
            <a:off x="76320" y="3595680"/>
            <a:ext cx="8961480" cy="2592360"/>
            <a:chOff x="76320" y="3595680"/>
            <a:chExt cx="8961480" cy="2592360"/>
          </a:xfrm>
        </p:grpSpPr>
        <p:grpSp>
          <p:nvGrpSpPr>
            <p:cNvPr id="312" name="Group 102"/>
            <p:cNvGrpSpPr/>
            <p:nvPr/>
          </p:nvGrpSpPr>
          <p:grpSpPr>
            <a:xfrm>
              <a:off x="76320" y="3595680"/>
              <a:ext cx="8961480" cy="2592360"/>
              <a:chOff x="76320" y="3595680"/>
              <a:chExt cx="8961480" cy="2592360"/>
            </a:xfrm>
          </p:grpSpPr>
          <p:grpSp>
            <p:nvGrpSpPr>
              <p:cNvPr id="313" name="Group 103"/>
              <p:cNvGrpSpPr/>
              <p:nvPr/>
            </p:nvGrpSpPr>
            <p:grpSpPr>
              <a:xfrm>
                <a:off x="76320" y="3595680"/>
                <a:ext cx="8961480" cy="2592360"/>
                <a:chOff x="76320" y="3595680"/>
                <a:chExt cx="8961480" cy="2592360"/>
              </a:xfrm>
            </p:grpSpPr>
            <p:grpSp>
              <p:nvGrpSpPr>
                <p:cNvPr id="314" name="Group 104"/>
                <p:cNvGrpSpPr/>
                <p:nvPr/>
              </p:nvGrpSpPr>
              <p:grpSpPr>
                <a:xfrm>
                  <a:off x="76320" y="3595680"/>
                  <a:ext cx="8961480" cy="2592360"/>
                  <a:chOff x="76320" y="3595680"/>
                  <a:chExt cx="8961480" cy="2592360"/>
                </a:xfrm>
              </p:grpSpPr>
              <p:grpSp>
                <p:nvGrpSpPr>
                  <p:cNvPr id="315" name="Group 1"/>
                  <p:cNvGrpSpPr/>
                  <p:nvPr/>
                </p:nvGrpSpPr>
                <p:grpSpPr>
                  <a:xfrm>
                    <a:off x="76320" y="3595680"/>
                    <a:ext cx="8961480" cy="2592360"/>
                    <a:chOff x="76320" y="3595680"/>
                    <a:chExt cx="8961480" cy="2592360"/>
                  </a:xfrm>
                </p:grpSpPr>
                <p:sp>
                  <p:nvSpPr>
                    <p:cNvPr id="316" name="AutoShape 3"/>
                    <p:cNvSpPr/>
                    <p:nvPr/>
                  </p:nvSpPr>
                  <p:spPr>
                    <a:xfrm>
                      <a:off x="76320" y="3595680"/>
                      <a:ext cx="8961480" cy="2041200"/>
                    </a:xfrm>
                    <a:prstGeom prst="roundRect">
                      <a:avLst>
                        <a:gd name="adj" fmla="val 134"/>
                      </a:avLst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317" name="AutoShape 8"/>
                    <p:cNvSpPr/>
                    <p:nvPr/>
                  </p:nvSpPr>
                  <p:spPr>
                    <a:xfrm>
                      <a:off x="3466440" y="5677920"/>
                      <a:ext cx="1601640" cy="510120"/>
                    </a:xfrm>
                    <a:prstGeom prst="roundRect">
                      <a:avLst>
                        <a:gd name="adj" fmla="val 426"/>
                      </a:avLst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000" bIns="45000" anchor="ctr" anchorCtr="1">
                      <a:norm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Top_Modu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318" name="Group 32"/>
                  <p:cNvGrpSpPr/>
                  <p:nvPr/>
                </p:nvGrpSpPr>
                <p:grpSpPr>
                  <a:xfrm>
                    <a:off x="304920" y="4391280"/>
                    <a:ext cx="4030560" cy="963360"/>
                    <a:chOff x="304920" y="4391280"/>
                    <a:chExt cx="4030560" cy="963360"/>
                  </a:xfrm>
                </p:grpSpPr>
                <p:grpSp>
                  <p:nvGrpSpPr>
                    <p:cNvPr id="319" name="Group 29"/>
                    <p:cNvGrpSpPr/>
                    <p:nvPr/>
                  </p:nvGrpSpPr>
                  <p:grpSpPr>
                    <a:xfrm>
                      <a:off x="304920" y="4391280"/>
                      <a:ext cx="4030560" cy="523800"/>
                      <a:chOff x="304920" y="4391280"/>
                      <a:chExt cx="4030560" cy="523800"/>
                    </a:xfrm>
                  </p:grpSpPr>
                  <p:sp>
                    <p:nvSpPr>
                      <p:cNvPr id="320" name="AutoShape 11"/>
                      <p:cNvSpPr/>
                      <p:nvPr/>
                    </p:nvSpPr>
                    <p:spPr>
                      <a:xfrm>
                        <a:off x="304920" y="4391280"/>
                        <a:ext cx="4030560" cy="523800"/>
                      </a:xfrm>
                      <a:prstGeom prst="roundRect">
                        <a:avLst>
                          <a:gd name="adj" fmla="val 120"/>
                        </a:avLst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endParaRPr>
                      </a:p>
                    </p:txBody>
                  </p:sp>
                  <p:grpSp>
                    <p:nvGrpSpPr>
                      <p:cNvPr id="321" name="Group 28"/>
                      <p:cNvGrpSpPr/>
                      <p:nvPr/>
                    </p:nvGrpSpPr>
                    <p:grpSpPr>
                      <a:xfrm>
                        <a:off x="449280" y="4490640"/>
                        <a:ext cx="3741840" cy="293400"/>
                        <a:chOff x="449280" y="4490640"/>
                        <a:chExt cx="3741840" cy="293400"/>
                      </a:xfrm>
                    </p:grpSpPr>
                    <p:sp>
                      <p:nvSpPr>
                        <p:cNvPr id="322" name="AutoShape 12"/>
                        <p:cNvSpPr/>
                        <p:nvPr/>
                      </p:nvSpPr>
                      <p:spPr>
                        <a:xfrm>
                          <a:off x="449280" y="4490640"/>
                          <a:ext cx="1989360" cy="293400"/>
                        </a:xfrm>
                        <a:prstGeom prst="roundRect">
                          <a:avLst>
                            <a:gd name="adj" fmla="val 463"/>
                          </a:avLst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ctr" anchorCtr="1">
                          <a:norm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  <a:tab algn="l" pos="9601200"/>
                              <a:tab algn="l" pos="10058400"/>
                              <a:tab algn="l" pos="10515600"/>
                            </a:tabLst>
                          </a:pPr>
                          <a:r>
                            <a:rPr b="1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  <a:ea typeface="Arial"/>
                            </a:rPr>
                            <a:t>Param_Name :</a:t>
                          </a:r>
                          <a:r>
                            <a:rPr b="0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  <a:ea typeface="Arial"/>
                            </a:rPr>
                            <a:t> clk_freq_Hz</a:t>
                          </a:r>
                          <a:endParaRPr b="0" lang="en-US" sz="11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323" name="AutoShape 15"/>
                        <p:cNvSpPr/>
                        <p:nvPr/>
                      </p:nvSpPr>
                      <p:spPr>
                        <a:xfrm>
                          <a:off x="2362320" y="4490640"/>
                          <a:ext cx="1828800" cy="293400"/>
                        </a:xfrm>
                        <a:prstGeom prst="roundRect">
                          <a:avLst>
                            <a:gd name="adj" fmla="val 463"/>
                          </a:avLst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ctr" anchorCtr="1">
                          <a:norm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  <a:tab algn="l" pos="9601200"/>
                              <a:tab algn="l" pos="10058400"/>
                              <a:tab algn="l" pos="10515600"/>
                            </a:tabLst>
                          </a:pPr>
                          <a:r>
                            <a:rPr b="1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Default Value :</a:t>
                          </a:r>
                          <a:r>
                            <a:rPr b="0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 1 (Hz)</a:t>
                          </a:r>
                          <a:endParaRPr b="0" lang="en-US" sz="11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324" name="AutoShape 6"/>
                    <p:cNvSpPr/>
                    <p:nvPr/>
                  </p:nvSpPr>
                  <p:spPr>
                    <a:xfrm>
                      <a:off x="1220760" y="4989960"/>
                      <a:ext cx="1827000" cy="364680"/>
                    </a:xfrm>
                    <a:prstGeom prst="roundRect">
                      <a:avLst>
                        <a:gd name="adj" fmla="val 426"/>
                      </a:avLst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000" bIns="45000" anchor="ctr" anchorCtr="1">
                      <a:normAutofit fontScale="64000"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Instance#1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Parameter_Own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325" name="Group 2"/>
                  <p:cNvGrpSpPr/>
                  <p:nvPr/>
                </p:nvGrpSpPr>
                <p:grpSpPr>
                  <a:xfrm>
                    <a:off x="4419720" y="4391280"/>
                    <a:ext cx="4411440" cy="963360"/>
                    <a:chOff x="4419720" y="4391280"/>
                    <a:chExt cx="4411440" cy="963360"/>
                  </a:xfrm>
                </p:grpSpPr>
                <p:grpSp>
                  <p:nvGrpSpPr>
                    <p:cNvPr id="326" name="Group 31"/>
                    <p:cNvGrpSpPr/>
                    <p:nvPr/>
                  </p:nvGrpSpPr>
                  <p:grpSpPr>
                    <a:xfrm>
                      <a:off x="4419720" y="4391280"/>
                      <a:ext cx="4411440" cy="523800"/>
                      <a:chOff x="4419720" y="4391280"/>
                      <a:chExt cx="4411440" cy="523800"/>
                    </a:xfrm>
                  </p:grpSpPr>
                  <p:sp>
                    <p:nvSpPr>
                      <p:cNvPr id="327" name="AutoShape 11"/>
                      <p:cNvSpPr/>
                      <p:nvPr/>
                    </p:nvSpPr>
                    <p:spPr>
                      <a:xfrm>
                        <a:off x="4419720" y="4391280"/>
                        <a:ext cx="4411440" cy="523800"/>
                      </a:xfrm>
                      <a:prstGeom prst="roundRect">
                        <a:avLst>
                          <a:gd name="adj" fmla="val 120"/>
                        </a:avLst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endParaRPr>
                      </a:p>
                    </p:txBody>
                  </p:sp>
                  <p:grpSp>
                    <p:nvGrpSpPr>
                      <p:cNvPr id="328" name="Group 30"/>
                      <p:cNvGrpSpPr/>
                      <p:nvPr/>
                    </p:nvGrpSpPr>
                    <p:grpSpPr>
                      <a:xfrm>
                        <a:off x="4556160" y="4465800"/>
                        <a:ext cx="4275000" cy="335160"/>
                        <a:chOff x="4556160" y="4465800"/>
                        <a:chExt cx="4275000" cy="335160"/>
                      </a:xfrm>
                    </p:grpSpPr>
                    <p:sp>
                      <p:nvSpPr>
                        <p:cNvPr id="329" name="AutoShape 12"/>
                        <p:cNvSpPr/>
                        <p:nvPr/>
                      </p:nvSpPr>
                      <p:spPr>
                        <a:xfrm>
                          <a:off x="4556160" y="4465800"/>
                          <a:ext cx="2378160" cy="335160"/>
                        </a:xfrm>
                        <a:prstGeom prst="roundRect">
                          <a:avLst>
                            <a:gd name="adj" fmla="val 463"/>
                          </a:avLst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ctr" anchorCtr="1">
                          <a:norm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  <a:tab algn="l" pos="9601200"/>
                              <a:tab algn="l" pos="10058400"/>
                              <a:tab algn="l" pos="10515600"/>
                            </a:tabLst>
                          </a:pPr>
                          <a:r>
                            <a:rPr b="1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  <a:ea typeface="Arial"/>
                            </a:rPr>
                            <a:t>Param_Name :</a:t>
                          </a:r>
                          <a:r>
                            <a:rPr b="0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  <a:ea typeface="Arial"/>
                            </a:rPr>
                            <a:t> clock_speed_KHz</a:t>
                          </a:r>
                          <a:endParaRPr b="0" lang="en-US" sz="11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330" name="AutoShape 15"/>
                        <p:cNvSpPr/>
                        <p:nvPr/>
                      </p:nvSpPr>
                      <p:spPr>
                        <a:xfrm>
                          <a:off x="6850080" y="4465800"/>
                          <a:ext cx="1981080" cy="335160"/>
                        </a:xfrm>
                        <a:prstGeom prst="roundRect">
                          <a:avLst>
                            <a:gd name="adj" fmla="val 463"/>
                          </a:avLst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ctr" anchorCtr="1">
                          <a:norm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  <a:tab algn="l" pos="9601200"/>
                              <a:tab algn="l" pos="10058400"/>
                              <a:tab algn="l" pos="10515600"/>
                            </a:tabLst>
                          </a:pPr>
                          <a:r>
                            <a:rPr b="1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Default Value :</a:t>
                          </a:r>
                          <a:r>
                            <a:rPr b="0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 2 (KHz)</a:t>
                          </a:r>
                          <a:endParaRPr b="0" lang="en-US" sz="11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331" name="AutoShape 6"/>
                    <p:cNvSpPr/>
                    <p:nvPr/>
                  </p:nvSpPr>
                  <p:spPr>
                    <a:xfrm>
                      <a:off x="5716440" y="4989960"/>
                      <a:ext cx="1827000" cy="364680"/>
                    </a:xfrm>
                    <a:prstGeom prst="roundRect">
                      <a:avLst>
                        <a:gd name="adj" fmla="val 426"/>
                      </a:avLst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000" bIns="45000" anchor="ctr" anchorCtr="1">
                      <a:normAutofit fontScale="64000"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Instance#2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Parameter_Own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p:txBody>
                </p:sp>
              </p:grpSp>
            </p:grpSp>
            <p:sp>
              <p:nvSpPr>
                <p:cNvPr id="332" name="Oval 25"/>
                <p:cNvSpPr/>
                <p:nvPr/>
              </p:nvSpPr>
              <p:spPr>
                <a:xfrm>
                  <a:off x="380880" y="4421160"/>
                  <a:ext cx="2057400" cy="441360"/>
                </a:xfrm>
                <a:prstGeom prst="ellipse">
                  <a:avLst/>
                </a:prstGeom>
                <a:noFill/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333" name="Oval 26"/>
                <p:cNvSpPr/>
                <p:nvPr/>
              </p:nvSpPr>
              <p:spPr>
                <a:xfrm>
                  <a:off x="4495680" y="4467240"/>
                  <a:ext cx="2354400" cy="441360"/>
                </a:xfrm>
                <a:prstGeom prst="ellipse">
                  <a:avLst/>
                </a:prstGeom>
                <a:noFill/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334" name="Group 124"/>
              <p:cNvGrpSpPr/>
              <p:nvPr/>
            </p:nvGrpSpPr>
            <p:grpSpPr>
              <a:xfrm>
                <a:off x="1409400" y="3749760"/>
                <a:ext cx="4264200" cy="704880"/>
                <a:chOff x="1409400" y="3749760"/>
                <a:chExt cx="4264200" cy="704880"/>
              </a:xfrm>
            </p:grpSpPr>
            <p:cxnSp>
              <p:nvCxnSpPr>
                <p:cNvPr id="335" name="Curved Connector 10"/>
                <p:cNvCxnSpPr>
                  <a:stCxn id="332" idx="0"/>
                  <a:endCxn id="336" idx="1"/>
                </p:cNvCxnSpPr>
                <p:nvPr/>
              </p:nvCxnSpPr>
              <p:spPr>
                <a:xfrm flipH="1" flipV="1" rot="5400000">
                  <a:off x="1937160" y="3373560"/>
                  <a:ext cx="506880" cy="1562760"/>
                </a:xfrm>
                <a:prstGeom prst="curvedConnector2">
                  <a:avLst/>
                </a:prstGeom>
                <a:ln w="19080">
                  <a:solidFill>
                    <a:srgbClr val="00b050"/>
                  </a:solidFill>
                  <a:prstDash val="sysDash"/>
                  <a:miter/>
                  <a:headEnd len="lg" type="triangle" w="lg"/>
                  <a:tailEnd len="lg" type="triangle" w="lg"/>
                </a:ln>
              </p:spPr>
            </p:cxnSp>
            <p:sp>
              <p:nvSpPr>
                <p:cNvPr id="336" name="AutoShape 15"/>
                <p:cNvSpPr/>
                <p:nvPr/>
              </p:nvSpPr>
              <p:spPr>
                <a:xfrm>
                  <a:off x="2971800" y="3749760"/>
                  <a:ext cx="1828800" cy="30312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79000"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param_value_sync_with_cf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cxnSp>
              <p:nvCxnSpPr>
                <p:cNvPr id="337" name="Curved Connector 10"/>
                <p:cNvCxnSpPr>
                  <a:stCxn id="336" idx="3"/>
                  <a:endCxn id="333" idx="0"/>
                </p:cNvCxnSpPr>
                <p:nvPr/>
              </p:nvCxnSpPr>
              <p:spPr>
                <a:xfrm>
                  <a:off x="4800240" y="3901680"/>
                  <a:ext cx="873720" cy="553320"/>
                </a:xfrm>
                <a:prstGeom prst="curvedConnector2">
                  <a:avLst/>
                </a:prstGeom>
                <a:ln w="19080">
                  <a:solidFill>
                    <a:srgbClr val="00b050"/>
                  </a:solidFill>
                  <a:prstDash val="sysDash"/>
                  <a:miter/>
                  <a:headEnd len="lg" type="triangle" w="lg"/>
                  <a:tailEnd len="lg" type="triangle" w="lg"/>
                </a:ln>
              </p:spPr>
            </p:cxnSp>
          </p:grpSp>
        </p:grpSp>
        <p:sp>
          <p:nvSpPr>
            <p:cNvPr id="338" name="AutoShape 15"/>
            <p:cNvSpPr/>
            <p:nvPr/>
          </p:nvSpPr>
          <p:spPr>
            <a:xfrm>
              <a:off x="6858000" y="4497480"/>
              <a:ext cx="1828800" cy="30312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Old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5 (K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39" name="AutoShape 15"/>
            <p:cNvSpPr/>
            <p:nvPr/>
          </p:nvSpPr>
          <p:spPr>
            <a:xfrm>
              <a:off x="2438280" y="4495680"/>
              <a:ext cx="1828800" cy="30348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Old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5000 (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340" name="Group 3"/>
          <p:cNvGrpSpPr/>
          <p:nvPr/>
        </p:nvGrpSpPr>
        <p:grpSpPr>
          <a:xfrm>
            <a:off x="1236600" y="1766880"/>
            <a:ext cx="6705720" cy="847800"/>
            <a:chOff x="1236600" y="1766880"/>
            <a:chExt cx="6705720" cy="847800"/>
          </a:xfrm>
        </p:grpSpPr>
        <p:sp>
          <p:nvSpPr>
            <p:cNvPr id="341" name="AutoShape 5"/>
            <p:cNvSpPr/>
            <p:nvPr/>
          </p:nvSpPr>
          <p:spPr>
            <a:xfrm>
              <a:off x="3321720" y="2237400"/>
              <a:ext cx="2535120" cy="3772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42" name="AutoShape 23"/>
            <p:cNvSpPr/>
            <p:nvPr/>
          </p:nvSpPr>
          <p:spPr>
            <a:xfrm>
              <a:off x="1236600" y="1766880"/>
              <a:ext cx="6705720" cy="47880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At 0ns, change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value of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Bitstream Charter"/>
                </a:rPr>
                <a:t>clck_speed_KHz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via 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 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to 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12 (KHz)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43" name="AutoShape 23"/>
          <p:cNvSpPr/>
          <p:nvPr/>
        </p:nvSpPr>
        <p:spPr>
          <a:xfrm>
            <a:off x="3732840" y="1142640"/>
            <a:ext cx="1715400" cy="30708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Simulation start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344" name="Group 46"/>
          <p:cNvGrpSpPr/>
          <p:nvPr/>
        </p:nvGrpSpPr>
        <p:grpSpPr>
          <a:xfrm>
            <a:off x="6934320" y="4419720"/>
            <a:ext cx="1828800" cy="457200"/>
            <a:chOff x="6934320" y="4419720"/>
            <a:chExt cx="1828800" cy="457200"/>
          </a:xfrm>
        </p:grpSpPr>
        <p:sp>
          <p:nvSpPr>
            <p:cNvPr id="345" name="AutoShape 15"/>
            <p:cNvSpPr/>
            <p:nvPr/>
          </p:nvSpPr>
          <p:spPr>
            <a:xfrm>
              <a:off x="6934320" y="4495680"/>
              <a:ext cx="1828800" cy="30312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12 (K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46" name="Oval 48"/>
            <p:cNvSpPr/>
            <p:nvPr/>
          </p:nvSpPr>
          <p:spPr>
            <a:xfrm>
              <a:off x="6934320" y="4419720"/>
              <a:ext cx="1752840" cy="457200"/>
            </a:xfrm>
            <a:prstGeom prst="ellipse">
              <a:avLst/>
            </a:prstGeom>
            <a:noFill/>
            <a:ln w="25560">
              <a:solidFill>
                <a:srgbClr val="9282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47" name="AutoShape 5"/>
          <p:cNvSpPr/>
          <p:nvPr/>
        </p:nvSpPr>
        <p:spPr>
          <a:xfrm>
            <a:off x="1600200" y="2822400"/>
            <a:ext cx="6323040" cy="45432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5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Registered Callback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for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ock_speed_KHz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parameter is called and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k_freq_Hz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value is synchronized with the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ock_speed_KHz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valu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348" name="Curved Connector 9"/>
          <p:cNvCxnSpPr>
            <a:stCxn id="342" idx="3"/>
            <a:endCxn id="333" idx="0"/>
          </p:cNvCxnSpPr>
          <p:nvPr/>
        </p:nvCxnSpPr>
        <p:spPr>
          <a:xfrm flipH="1">
            <a:off x="5673240" y="2006280"/>
            <a:ext cx="2269440" cy="2461320"/>
          </a:xfrm>
          <a:prstGeom prst="curvedConnector5">
            <a:avLst>
              <a:gd name="adj1" fmla="val -10058"/>
              <a:gd name="adj2" fmla="val 27428"/>
              <a:gd name="adj3" fmla="val -10058"/>
            </a:avLst>
          </a:prstGeom>
          <a:ln w="19080">
            <a:solidFill>
              <a:srgbClr val="92823e"/>
            </a:solidFill>
            <a:miter/>
            <a:tailEnd len="med" type="arrow" w="med"/>
          </a:ln>
        </p:spPr>
      </p:cxnSp>
      <p:cxnSp>
        <p:nvCxnSpPr>
          <p:cNvPr id="349" name="AutoShape 128"/>
          <p:cNvCxnSpPr>
            <a:stCxn id="336" idx="0"/>
          </p:cNvCxnSpPr>
          <p:nvPr/>
        </p:nvCxnSpPr>
        <p:spPr>
          <a:xfrm flipV="1">
            <a:off x="3886200" y="3276360"/>
            <a:ext cx="838800" cy="473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350" name="Group 38"/>
          <p:cNvGrpSpPr/>
          <p:nvPr/>
        </p:nvGrpSpPr>
        <p:grpSpPr>
          <a:xfrm>
            <a:off x="2514600" y="4419720"/>
            <a:ext cx="1828800" cy="457200"/>
            <a:chOff x="2514600" y="4419720"/>
            <a:chExt cx="1828800" cy="457200"/>
          </a:xfrm>
        </p:grpSpPr>
        <p:sp>
          <p:nvSpPr>
            <p:cNvPr id="351" name="AutoShape 15"/>
            <p:cNvSpPr/>
            <p:nvPr/>
          </p:nvSpPr>
          <p:spPr>
            <a:xfrm>
              <a:off x="2514600" y="4495680"/>
              <a:ext cx="1828800" cy="30312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12000 (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52" name="Oval 45"/>
            <p:cNvSpPr/>
            <p:nvPr/>
          </p:nvSpPr>
          <p:spPr>
            <a:xfrm>
              <a:off x="2514600" y="4419720"/>
              <a:ext cx="1752840" cy="457200"/>
            </a:xfrm>
            <a:prstGeom prst="ellipse">
              <a:avLst/>
            </a:prstGeom>
            <a:noFill/>
            <a:ln w="25560">
              <a:solidFill>
                <a:srgbClr val="9282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53" name="Rectangle 134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7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4" name="Title 1"/>
          <p:cNvSpPr/>
          <p:nvPr/>
        </p:nvSpPr>
        <p:spPr>
          <a:xfrm>
            <a:off x="141120" y="46080"/>
            <a:ext cx="889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Example Illustration 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Expected Output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(ex12_Indirectly_Associateing_Parameters.log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0880" y="12193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owner1: @0 s, [OWNER C_TOR] : Parameter Name   : top_mod.param_owner1.clk_freq_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owner2: @0 s, [OWNER C_TOR] : Parameter Name   : top_mod.param_owner2.clock_speed_KHz   Parameter Value :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: @0 s, [TOP_MODULE C_TOR] : Parameter Name : top_mod.param_owner1.clk_freq_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1.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: @0 s, [TOP_MODULE C_TOR] : Parameter Name : top_mod.param_owner2.clock_speed_K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2.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value_sync_with_cf: @0 s, Parameter1_str: top_mod.param_owner1.clk_freq_Hz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value_sync_with_cf: @0 s, Parameter2_str : top_mod.param_owner2.clock_speed_KHz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value_sync_with_cf: @0 s, ConversionFactor : 0.00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C_TOR] : Parameter Name : top_mod.param_owner1.clk_freq_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1.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C_TOR] : Parameter Name : top_mod.param_owner2.clock_speed_K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0.00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within beoe] Within the BEOE phas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within beoe] : Changing the 'clk_freq_Hz' of OWNER (1) to 5000 (Hz)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380880" y="15145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value_sync_with_cf: @0 s, [PARAM_VALUE_SYNC - post_write callback] : Parameter Name : top_mod.param_owner1.clk_freq_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5000.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value_sync_with_cf: @0 s, [PARAM_VALUE_SYNC - post_write callback] : Parameter Name : top_mod.param_owner2.clock_speed_K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5.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within beoe] : Parameter Name : top_mod.param_owner1.clk_freq_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5000.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within beoe] : Parameter Name : top_mod.param_owner2.clock_speed_K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5.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@ 0 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Changing the 'clock_speed_KHz' of OWNER (2) to 12 (KHz)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value_sync_with_cf: @0 s, [PARAM_VALUE_SYNC - post_write callback] : Parameter Name : top_mod.param_owner2.clock_speed_K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12.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value_sync_with_cf: @0 s, [PARAM_VALUE_SYNC - post_write callback] : Parameter Name : top_mod.param_owner1.clk_freq_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12000.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Parameter Name : top_mod.param_owner1.clk_freq_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12000.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Parameter Name : top_mod.param_owner2.clock_speed_K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12.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8:34:41Z</dcterms:created>
  <dc:creator>P V S Phaneendra</dc:creator>
  <dc:description/>
  <cp:keywords>CTPClassification=CTP_IC:VisualMarkings=</cp:keywords>
  <dc:language>en-US</dc:language>
  <cp:lastModifiedBy>Wieman, Trevor</cp:lastModifiedBy>
  <cp:lastPrinted>2008-06-05T03:17:01Z</cp:lastPrinted>
  <dcterms:modified xsi:type="dcterms:W3CDTF">2017-12-16T22:34:08Z</dcterms:modified>
  <cp:revision>30</cp:revision>
  <dc:subject/>
  <dc:title>ex12_Indirectly_Associating_Parameter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6 22:34:07Z</vt:lpwstr>
  </property>
  <property fmtid="{D5CDD505-2E9C-101B-9397-08002B2CF9AE}" pid="5" name="TitusGUID">
    <vt:lpwstr>2047365e-e2e2-4720-a50e-ebed3c959e5e</vt:lpwstr>
  </property>
</Properties>
</file>